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0269-4B27-4075-8264-9E3E8FE15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9BA4-40B6-443A-90C8-1F06A2FCA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D9D7-5B5F-4F6A-A849-8009840CD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8B51-21DC-46CF-A893-C051AF0AA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5CEC-2799-40C0-A702-84DC26050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F00F-8112-4472-B62C-2D1F4A40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C914-876C-45CD-A78E-8F063CFF6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D032-32DC-479D-8AD5-CD63ED5F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C218-B3D4-45B4-BDCA-2F7154979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5375-9217-483F-8A26-1F47208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0BBE-1F93-48B1-8C18-7E1B727AF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056E-7E93-471E-9268-A57B4682D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80B9-C09B-4A36-ACC1-AEFAA802512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ReqIF 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1:40:36Z</dcterms:created>
  <dc:creator>Michael Jastram</dc:creator>
  <dc:description/>
  <dc:language>en-US</dc:language>
  <cp:lastModifiedBy>Michael Jastram</cp:lastModifiedBy>
  <dcterms:modified xsi:type="dcterms:W3CDTF">2012-10-08T11:41:32Z</dcterms:modified>
  <cp:revision>1</cp:revision>
  <dc:subject/>
  <dc:title>ReqIF Test File</dc:title>
</cp:coreProperties>
</file>