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475913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990576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840" y="3693600"/>
            <a:ext cx="990576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61480" y="106668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85840" y="369360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61480" y="369360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318924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34920" y="1066680"/>
            <a:ext cx="318924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984000" y="1066680"/>
            <a:ext cx="318924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85840" y="3693600"/>
            <a:ext cx="318924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34920" y="3693600"/>
            <a:ext cx="318924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984000" y="3693600"/>
            <a:ext cx="318924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85840" y="1066680"/>
            <a:ext cx="9905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990576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483372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61480" y="1066680"/>
            <a:ext cx="483372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92120" y="304560"/>
            <a:ext cx="5918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1480" y="1066680"/>
            <a:ext cx="483372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840" y="369360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483372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61480" y="106668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61480" y="369360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61480" y="1066680"/>
            <a:ext cx="48337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693600"/>
            <a:ext cx="990576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5840" y="1066680"/>
            <a:ext cx="990576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571680" rIns="571680" tIns="46080" bIns="46080" anchor="ctr">
            <a:normAutofit fontScale="91000"/>
          </a:bodyPr>
          <a:p>
            <a:pPr marL="25992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91919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920" indent="-25992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91919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59920" indent="-25992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91919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9920" indent="-25992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91919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9920" indent="-25992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9920" indent="-25992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840" y="1025640"/>
            <a:ext cx="98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6360" y="996840"/>
            <a:ext cx="425520" cy="6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04160" y="6308640"/>
            <a:ext cx="10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39040" y="5956200"/>
            <a:ext cx="176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840" y="6130800"/>
            <a:ext cx="98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6360" y="6102360"/>
            <a:ext cx="42552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4360" y="6324480"/>
            <a:ext cx="171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3GPP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8186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852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8534520" y="228600"/>
          <a:ext cx="1393560" cy="731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34520" y="228600"/>
                    <a:ext cx="13935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differences and gaps of Lawful Interception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tween legacy telecommunication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call scenario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63244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3LI01-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GPP TSG SA WG3 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990576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s used to select a target to be intercep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TN: Directory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G Networks (CS and PS): MSISDN, IMSI, IME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G CS and PS domain: MSISDN, IMSI, IMEI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G IMS domain: SIP UR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GPP TSG SA WG3 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cepting network elemen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487656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571680" rIns="571680" tIns="46080" bIns="46080" anchor="ctr">
            <a:normAutofit/>
          </a:bodyPr>
          <a:p>
            <a:pPr indent="0" algn="ctr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G Networks, 3G CS and PS do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C (MSC Serv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S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5040" y="1066680"/>
            <a:ext cx="487656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571680" rIns="571680" tIns="46080" bIns="46080" anchor="ctr">
            <a:normAutofit/>
          </a:bodyPr>
          <a:p>
            <a:pPr indent="0" algn="ctr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G IMS do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-CSC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CSC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GPP TSG SA WG3 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ult of Intercepti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990576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571680" rIns="571680" tIns="46080" bIns="46080" anchor="ctr">
            <a:normAutofit/>
          </a:bodyPr>
          <a:p>
            <a:pPr lvl="1" marL="685800" indent="0">
              <a:lnSpc>
                <a:spcPct val="87000"/>
              </a:lnSpc>
              <a:spcBef>
                <a:spcPts val="751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TN, 2G networks and 3G CS/3G PS doma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87000"/>
              </a:lnSpc>
              <a:spcBef>
                <a:spcPts val="675"/>
              </a:spcBef>
              <a:spcAft>
                <a:spcPts val="1125"/>
              </a:spcAft>
              <a:buClr>
                <a:srgbClr val="919191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cept related information (IRI) describing the event and the parties involved is delivered on interface port X0_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87000"/>
              </a:lnSpc>
              <a:spcBef>
                <a:spcPts val="675"/>
              </a:spcBef>
              <a:spcAft>
                <a:spcPts val="1125"/>
              </a:spcAft>
              <a:buClr>
                <a:srgbClr val="919191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of communication (CC) is delivered on interface port X0_3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G IMS doma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87000"/>
              </a:lnSpc>
              <a:spcBef>
                <a:spcPts val="675"/>
              </a:spcBef>
              <a:spcAft>
                <a:spcPts val="1125"/>
              </a:spcAft>
              <a:buClr>
                <a:srgbClr val="919191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intercept related information describing the event and the parties involved can be delivered on interface port X0_2, content of communication is not available at CSC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7000"/>
              </a:lnSpc>
              <a:spcBef>
                <a:spcPts val="751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GPP TSG SA WG3 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rrelation issu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990576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criber can (and should) be intercepted in both domains: PS and IMS doma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49"/>
              </a:spcBef>
              <a:spcAft>
                <a:spcPts val="17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rrelation between interception results from PS domain with results from IMS domain is only possible with the "lawful interception identifier" which may be unique for a subscriber, but not for a call. As no interception specific signaling is available, no exchange of interception data between intercepting nodes is possi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GPP TSG SA WG3 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ation Dependent Intercepti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990576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Dependent Interception (LDI) is a feature for serving nodes like VMSC, VMSC-Server and SGSN to intercept a subscriber only in a given area the Law Enforcement Agency is authorized f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-CSCF and S-CSCF the location of the subscriber is not known. This means that a subscriber always will be intercepted, independent of his location, as long as an interception task is entered in the CSC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GPP TSG SA WG3 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92120" y="30456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Interception and Call Forwarding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66680"/>
            <a:ext cx="990576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nario: Not intercepted subscriber A calls intercepted subscriber B which has call forwarding conditional (e.g. busy) to not intercepted subscriber 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ase of CS the visited MSC (Server) of intercepted subscriber B will intercept the cal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ase of multimedia call in IMS domain the node (S-CSCF) responsible for intercepted subscriber B will return the new directory number for not intercepted subscriber C to not intercepted subscriber A. Not intercepted subscriber A will establish a new call to not intercepted subscriber C. This call will not be intercepted as node for intercepted subscriber B is not involved any longer and no interception specific signaling between the nodes is avail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GPP TSG SA WG3 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6T15:43:58Z</dcterms:created>
  <dc:creator>Leopold Murhammer</dc:creator>
  <dc:description/>
  <dc:language>en-US</dc:language>
  <cp:lastModifiedBy>SIEMENS AG ÖSTERREICH, L. Murhammer</cp:lastModifiedBy>
  <cp:lastPrinted>2001-10-23T15:27:21Z</cp:lastPrinted>
  <dcterms:modified xsi:type="dcterms:W3CDTF">2001-10-25T08:19:20Z</dcterms:modified>
  <cp:revision>86</cp:revision>
  <dc:subject>Overview of differences and gaps of LI in IMS</dc:subject>
  <dc:title>S3LI01_112</dc:title>
</cp:coreProperties>
</file>