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AA65-2D2A-49D4-974C-E2B612967BF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F2AC-6DEF-4AB6-83BB-383D173675E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IoC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への招待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機能のすべ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初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改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149880"/>
            <a:ext cx="288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3" idx="1"/>
            <a:endCxn id="132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5877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パティの型がインターフェイスで、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それぞれの引数型のインターフェイスの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40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1"/>
            <a:endCxn id="145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ype2 / Type3 / Type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4720" y="579132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new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3" idx="1"/>
            <a:endCxn id="152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'Enjoy shopping!'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i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の一種。軽量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ightweight 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とも言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分野を適切に指し示す用語がまだ定まってい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version of Control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略。制御の逆転を意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設定（初期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逆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がオブジェクト生成に責任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プロパティ等の設定をコンテナが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クライアントはインターフェイスで受けて実装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初期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プロパティ設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メソッド呼び出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1760" y="1341360"/>
            <a:ext cx="744696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01760" y="4492800"/>
            <a:ext cx="741672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'SOHC-V12 Twin turbo'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25462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1341360"/>
            <a:ext cx="33112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は型で取得できないために、必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am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の設定が必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706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２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４による初期化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571824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の複数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: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コロン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ユースケース毎の分割を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red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yellow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ユースケース毎に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ユーザーも直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による登録・設定可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8" idx="1"/>
            <a:endCxn id="100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パティ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8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595008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シング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12T06:35:14Z</dcterms:modified>
  <cp:revision>90</cp:revision>
  <dc:subject/>
  <dc:title>スライド 1</dc:title>
</cp:coreProperties>
</file>