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7206-A99F-4F7D-B92F-2732B8C5B0E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2A7B-F604-436C-9E2F-66079BDF90F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の正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内部では何が起こっているのか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初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改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定義に追加された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リストに保存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中で出現順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リストに追加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の先頭から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調べら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名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指示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正規表現パターンのマッチを取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マッチ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部を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コ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が尽きるとコンポーネントメソッドを実行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から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今度は実行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部を逆順に実行してい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ーケン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6135480" cy="55929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7640" y="1341360"/>
            <a:ext cx="2521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tComponent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後に、コンポーネントのメソッド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呼び出しをインターセプト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最初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取得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自分を引数に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#invoke(Joinpoint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呼ばれ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前後で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あれば取得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無くなればコンポーネントメソッドを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 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のコールスタックをさかのぼるように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-config.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: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5734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4508640"/>
            <a:ext cx="6623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Advice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2997360"/>
            <a:ext cx="6624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84720" y="3789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多種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実は必要なかっ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多くのパターン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あ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にかく易し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実装への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新しい概念のために、必勝パターンが確立してい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何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作ればいいの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部に依存する部分を集め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外処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殊なメソッド実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オブジェクト同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同期実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32000" y="1052640"/>
            <a:ext cx="758664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SpeakerImp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extension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Script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sample-script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4365720"/>
            <a:ext cx="5497560" cy="18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crip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joinpoi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y"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languag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hino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bindin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bindin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hello " + n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crip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5950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scrip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スクリプト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40360" y="2997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外部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ファイル参照をして、メソッド実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35002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スクリプトエンジンの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PI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隠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例外処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1268280"/>
            <a:ext cx="792180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xceptionHandle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//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ハンドラへのアクセッサ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fireExceptionHandler(Joinpoint joinpoint, 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handler.size() == 0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 fals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for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Iterator it = handlers.iterator(); it.hasNext();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ceptionHandler handler = (ExceptionHandler)it.nex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andler.handleException(joinpoint, e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u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ret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ull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 = 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!fireExceptionHandler(joinpoint, e)) {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e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55753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例外発生時、イベントハンドラを発火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3280" y="4292640"/>
            <a:ext cx="432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ry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で保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オブジェクト同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47640" y="1844640"/>
            <a:ext cx="708660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yncObject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target = joinpoint.getTar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synchronize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arge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.proceed(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nchronized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によってコンポーネントへのマルチスレッドアクセスを排他し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非同期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76320" y="1125360"/>
            <a:ext cx="6799320" cy="532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Call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 joinpoin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joinpoint =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hrowable ignor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Runner runner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 thread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ead(runn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.sta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oolean.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5640" y="61657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rea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行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返値と例外をコールバックする等の工夫の余地あ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オープンな仕様策定プロジェク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仕様の標準化を目指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パイ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環境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作業中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現在）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 Allian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準拠を今後行ってい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コンテナ・フレームワーク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の相互利用が可能にな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-AP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 Allian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ドラフトで幸いに相違がほとんどなかったため、早期実現が可能と思わ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 &amp;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rg.seasar.framework.aop.Around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コンテナ管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メソッドの引数を通してアクセスする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呼び出し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子要素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もしく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た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org/seasar/shellscript/sample-config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で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登場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内部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mponen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スペク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おい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実装するインターフェイ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バイトコードエンジニアリングライブラ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627280" y="3213000"/>
            <a:ext cx="6192720" cy="3168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Container - Aop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59640" y="3645000"/>
            <a:ext cx="194616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32000" y="3645000"/>
            <a:ext cx="338472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関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＆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ら成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コンポーネントメソッドをリフレクション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429264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429264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556272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367640" y="4688280"/>
            <a:ext cx="2592360" cy="505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00720" y="558972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450864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573408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4716360" y="4653000"/>
            <a:ext cx="1728720" cy="10080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40360" y="4724280"/>
            <a:ext cx="0" cy="86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4941720"/>
            <a:ext cx="1440000" cy="432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213000"/>
            <a:ext cx="1655640" cy="3168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450864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58053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57592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1440" y="2565360"/>
            <a:ext cx="655164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roundAdvic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Joinpoint joinpoint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joinpoint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6364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72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672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12T06:34:57Z</dcterms:modified>
  <cp:revision>41</cp:revision>
  <dc:subject/>
  <dc:title>スライド 1</dc:title>
</cp:coreProperties>
</file>