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3029-C6F9-4972-8C2A-5E5081C1CDD3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B62A-F23F-4487-83FA-F05D05A83ABA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.NE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砂上の楼閣で野望を叫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taichitai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ｱﾔｼｲ思いつきがある時と、考えをまとめたい時に書い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か、色々不思議な事に立ち会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上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0 →2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バージョン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を開発している筈なのに、自分だけ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開発した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近、原点回帰とも言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開発して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っと色々知りたい方は、この後の宴会に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dotnet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Framewor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で動作す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用モック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ランザクション管理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は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は一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式言語は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なく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crip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埋め込みリソース、外部リソース共に扱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インの実装者は、杉本和也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kamedan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34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動作しており、既に実案件に投入されて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＋バ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もそ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ュニティ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エンジニア主体なので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人は中々居ない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膨大で、かつ、ポリシーもキチンとあるプラットフォームなのに２人ではキツ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らない事が多く、かなり試行錯誤を繰り返し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DO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JDBC,S2DA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あると生産性が根本的に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も出来るが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SP.NET(S2JSF,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相当開発し易いので、どう折り合いをつけるか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Remoting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分も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2Container 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機能の実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自動登録はあると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priseLibrar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の情報が少し少ない気がするので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Studi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jimun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のビジュアルエディタプラグ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のイベントインジェ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ォームデザイナから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たコンポーネントとイベントを紐付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これからリリースするであろう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応ツールを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用に拡張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1565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使ってみ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そして、開発に参加し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いう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助けて下さい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足りない事は多いけれど、やりたい事や夢はイッパイ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メーリングリストにご参加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lists.sourceforge.jp/mailman/listinfo/seasar-s2do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へのトラックバックもお待ちしてお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3T07:47:17Z</dcterms:modified>
  <cp:revision>11</cp:revision>
  <dc:subject/>
  <dc:title>S2.NET ～砂上の楼閣で野望を叫ぶ！</dc:title>
</cp:coreProperties>
</file>