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A248-2F86-4020-9E9D-CBC408D6C1FD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3FD1-0F00-49AC-B801-737196793F2C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4800" spc="-1" strike="noStrike">
                <a:solidFill>
                  <a:srgbClr val="000000"/>
                </a:solidFill>
                <a:latin typeface="Century"/>
              </a:rPr>
              <a:t>S2JMS &amp; S2JCA</a:t>
            </a:r>
            <a:br>
              <a:rPr sz="48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～非同期メッセージングも易しく優し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ＭＳ Ｐ明朝"/>
              </a:rPr>
              <a:t>小林浩一</a:t>
            </a:r>
            <a:r>
              <a:rPr b="1" i="1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ja-JP" sz="3200" spc="-1" strike="noStrike">
                <a:solidFill>
                  <a:srgbClr val="000000"/>
                </a:solidFill>
                <a:latin typeface="Century"/>
              </a:rPr>
              <a:t>(koichi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デモンストレ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4932360" y="4149720"/>
            <a:ext cx="1440000" cy="14400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Acti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M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1268280"/>
            <a:ext cx="1079280" cy="432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ブラウ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0920" y="1268280"/>
            <a:ext cx="2160720" cy="432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ample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ベース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従業員が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追加されたら通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32360" y="1268280"/>
            <a:ext cx="1441440" cy="14400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HSQ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93080" y="4149720"/>
            <a:ext cx="143964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表示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03280" y="162864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11640" y="1628640"/>
            <a:ext cx="720720" cy="719280"/>
          </a:xfrm>
          <a:prstGeom prst="leftRightArrow">
            <a:avLst>
              <a:gd name="adj1" fmla="val 50000"/>
              <a:gd name="adj2" fmla="val 1994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84720" y="451008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331280" y="4508640"/>
            <a:ext cx="64908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45080" y="4510080"/>
            <a:ext cx="64800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3933720"/>
            <a:ext cx="6769080" cy="237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entury"/>
              </a:rPr>
              <a:t>追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con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SF Exampl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mployeeLogicIm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1989000"/>
            <a:ext cx="7921440" cy="265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class="examples.jsf.logic.impl.EmployeeLogicImpl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aspect&gt;logicInterceptorChain&lt;/aspe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aspect pointcut="inser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sendMessageInter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aspe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on2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ndMessageInter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1989000"/>
            <a:ext cx="7921440" cy="375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component name="sendMessageInterceptor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class="...SendMessageInterceptor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property name="messaeCreator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component class="...TextMessageCreator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property name="tex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"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#{employeeDto.empno}:#{employeeDto.ename}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propert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propert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使い方を教えてくだ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使い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装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2P or Pub/Su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ranscted or els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extMessage or els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キュー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ピッ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対して複数のロジッ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ミッタ募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一緒に開発しましょ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非同期メッセージングも易しく優し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送信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受信系はこれか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明朝"/>
              </a:rPr>
              <a:t>小林 浩一 </a:t>
            </a:r>
            <a:r>
              <a:rPr b="1" i="1" lang="ja-JP" sz="3600" spc="-1" strike="noStrike">
                <a:solidFill>
                  <a:srgbClr val="000000"/>
                </a:solidFill>
                <a:latin typeface="Century"/>
              </a:rPr>
              <a:t>(koichi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d.hatena.ne.jp/koichik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デルの話題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モデルでは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デルの画像たく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画像では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イドル画像でも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職場では見ない方が賢明か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s2jms.oscj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 Messaging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同期メッセージングのため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OM(Messaging-Oriented Middlew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BM WebSphereMQ(aka MQSeries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面倒な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易しく優しく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s2jca.oscj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C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 Connector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V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外部にある様々なりソースを扱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DB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O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もリソースの一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管理，トランザクション管理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C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一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管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おけ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1268280"/>
            <a:ext cx="6480000" cy="504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1484280"/>
            <a:ext cx="58341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entury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3429000"/>
            <a:ext cx="316872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アプリケーショ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サー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76720" y="3429000"/>
            <a:ext cx="208764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リソース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アダプ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3716280"/>
            <a:ext cx="165564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MS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バイ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3640" y="3716280"/>
            <a:ext cx="108108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ネクション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管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7956360" y="3789360"/>
            <a:ext cx="720720" cy="1152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76360" y="3716280"/>
            <a:ext cx="100800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ランザクション管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3933720"/>
            <a:ext cx="79200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80000" y="3068640"/>
            <a:ext cx="1008000" cy="647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76360" y="3068640"/>
            <a:ext cx="1008000" cy="647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933720"/>
            <a:ext cx="71928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3933720"/>
            <a:ext cx="79236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位置づ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1268280"/>
            <a:ext cx="6480000" cy="504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58920" y="1484280"/>
            <a:ext cx="58341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entury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3429000"/>
            <a:ext cx="316872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omca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も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スタンドアロンでも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76720" y="3429000"/>
            <a:ext cx="2087640" cy="2592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S2JMS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Conn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3716280"/>
            <a:ext cx="165564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MS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バイ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3640" y="3716280"/>
            <a:ext cx="1081080" cy="129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"/>
              </a:rPr>
              <a:t>S2J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7956360" y="3789360"/>
            <a:ext cx="720720" cy="1152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76360" y="3716280"/>
            <a:ext cx="100800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J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84720" y="3933720"/>
            <a:ext cx="79200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2924280"/>
            <a:ext cx="1008000" cy="792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76360" y="2924280"/>
            <a:ext cx="1008000" cy="792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84360" y="3933720"/>
            <a:ext cx="71928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8360" y="3933720"/>
            <a:ext cx="79236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76360" y="2349360"/>
            <a:ext cx="100800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2349360"/>
            <a:ext cx="1584360" cy="5763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"/>
              </a:rPr>
              <a:t>S2J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51280" y="2924280"/>
            <a:ext cx="288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インターセプ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送信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1268280"/>
            <a:ext cx="1081080" cy="504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812000" y="3429000"/>
            <a:ext cx="1081080" cy="180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ロジッ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5080" y="1268280"/>
            <a:ext cx="100800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7993080" y="5408280"/>
            <a:ext cx="718920" cy="10810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M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3429000"/>
            <a:ext cx="1081080" cy="28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T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51640" y="3429000"/>
            <a:ext cx="1439640" cy="28796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>
                <a:solidFill>
                  <a:srgbClr val="000000"/>
                </a:solidFill>
                <a:latin typeface="Century"/>
              </a:rPr>
              <a:t>S2J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s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送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1268280"/>
            <a:ext cx="6408720" cy="648000"/>
          </a:xfrm>
          <a:prstGeom prst="rightArrow">
            <a:avLst>
              <a:gd name="adj1" fmla="val 50000"/>
              <a:gd name="adj2" fmla="val 24725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28000" y="2708280"/>
            <a:ext cx="720720" cy="72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0800000">
            <a:off x="6443280" y="2205000"/>
            <a:ext cx="1368360" cy="1224000"/>
          </a:xfrm>
          <a:custGeom>
            <a:avLst/>
            <a:gdLst>
              <a:gd name="textAreaLeft" fmla="*/ 456120 w 1368360"/>
              <a:gd name="textAreaRight" fmla="*/ 1172160 w 1368360"/>
              <a:gd name="textAreaTop" fmla="*/ 704880 h 1224000"/>
              <a:gd name="textAreaBottom" fmla="*/ 1048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0328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436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092360" y="450864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558972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931640" y="558972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132000" y="5589720"/>
            <a:ext cx="64800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0920" y="3429000"/>
            <a:ext cx="1081080" cy="287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クショ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0544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331280" y="558972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受信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構想のみ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2053440" y="2707560"/>
            <a:ext cx="719280" cy="14414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M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1268280"/>
            <a:ext cx="1440000" cy="43214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"/>
              </a:rPr>
              <a:t>S2J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3640" y="306864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2000" y="1268280"/>
            <a:ext cx="143964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2708280"/>
            <a:ext cx="720720" cy="72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64000" y="3429000"/>
            <a:ext cx="64800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64000" y="1628640"/>
            <a:ext cx="648000" cy="64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2000" y="3429000"/>
            <a:ext cx="1439640" cy="216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entury"/>
              </a:rPr>
              <a:t>ロジ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290560" y="4869000"/>
            <a:ext cx="64908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4508640"/>
            <a:ext cx="2808360" cy="1800000"/>
          </a:xfrm>
          <a:prstGeom prst="wedgeEllipseCallout">
            <a:avLst>
              <a:gd name="adj1" fmla="val 76796"/>
              <a:gd name="adj2" fmla="val -3015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S2JS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的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位置づけ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HTT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リクエストの代わりにメッセー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開発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なぜ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る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同期メッセージング重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面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なぜ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る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インフ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憧れ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画面のよ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ッセージを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組み立てて送信できたら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ように受信した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ッセージを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にバインドできたら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小林浩一</dc:creator>
  <dc:description/>
  <dc:language>en-US</dc:language>
  <cp:lastModifiedBy>羽生　章洋</cp:lastModifiedBy>
  <dcterms:modified xsi:type="dcterms:W3CDTF">2005-07-13T07:46:14Z</dcterms:modified>
  <cp:revision>583</cp:revision>
  <dc:subject>非同期メッセージングも易しく優しく</dc:subject>
  <dc:title>S2JMS &amp; S2JCA</dc:title>
</cp:coreProperties>
</file>