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1ABB-D9A7-4420-ABA0-40066005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D743-D64F-4BA9-AD9F-C6B69F59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C275-F395-465C-AE9F-46CD22FC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40E3-5E4C-47F0-97FA-051A9184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8158-7EEC-44C9-AF41-2BC9ABB9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31D5-9E5E-42FA-8029-57FD461B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AFF3-E093-4B69-ADCC-2FB2CD6F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F241-C76C-4577-BADD-CBEAE70B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040A-16CB-43D8-AE55-73FD76C6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8FB7-2258-4E2D-97FC-01B894C8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8574-3B4F-4B0C-9B80-1D6AB196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5697-29E1-4093-97A6-6FAED075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A74E-C30B-47C6-AAA6-60B6749B9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60948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起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193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indWindow(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がいる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2096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既存の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YDATASTRUCT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で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コマンドラインを送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1371600" y="18288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>
            <a:off x="1371600" y="8380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914400" y="304812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3" idx="2"/>
            <a:endCxn id="46" idx="0"/>
          </p:cNvCxnSpPr>
          <p:nvPr/>
        </p:nvCxnSpPr>
        <p:spPr>
          <a:xfrm>
            <a:off x="1371600" y="2666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993240" y="181296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2952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初期化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（ウィンドウ、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X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9" idx="1"/>
          </p:cNvCxnSpPr>
          <p:nvPr/>
        </p:nvCxnSpPr>
        <p:spPr>
          <a:xfrm flipV="1">
            <a:off x="2209680" y="1523880"/>
            <a:ext cx="53388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2176560" y="127944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21337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M_COPY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受信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2" idx="0"/>
          </p:cNvCxnSpPr>
          <p:nvPr/>
        </p:nvCxnSpPr>
        <p:spPr>
          <a:xfrm>
            <a:off x="3429000" y="17524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74320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進行・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2" idx="2"/>
            <a:endCxn id="54" idx="0"/>
          </p:cNvCxnSpPr>
          <p:nvPr/>
        </p:nvCxnSpPr>
        <p:spPr>
          <a:xfrm>
            <a:off x="3429000" y="27432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125880" y="27432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メッセージを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3640" y="220968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1"/>
            <a:endCxn id="54" idx="3"/>
          </p:cNvCxnSpPr>
          <p:nvPr/>
        </p:nvCxnSpPr>
        <p:spPr>
          <a:xfrm rot="10800000">
            <a:off x="4114440" y="3352680"/>
            <a:ext cx="6098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2" idx="3"/>
            <a:endCxn id="57" idx="0"/>
          </p:cNvCxnSpPr>
          <p:nvPr/>
        </p:nvCxnSpPr>
        <p:spPr>
          <a:xfrm>
            <a:off x="4267080" y="2438640"/>
            <a:ext cx="1143360" cy="685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2" idx="1"/>
          </p:cNvCxnSpPr>
          <p:nvPr/>
        </p:nvCxnSpPr>
        <p:spPr>
          <a:xfrm flipV="1" rot="16200000">
            <a:off x="2438640" y="2590920"/>
            <a:ext cx="1143000" cy="838440"/>
          </a:xfrm>
          <a:prstGeom prst="bentConnector4">
            <a:avLst>
              <a:gd name="adj1" fmla="val -20258"/>
              <a:gd name="adj2" fmla="val 1287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19320" y="838080"/>
          <a:ext cx="6507000" cy="488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507000" cy="48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0:30:47Z</dcterms:created>
  <dc:creator>山崎 顕治</dc:creator>
  <dc:description/>
  <dc:language>en-US</dc:language>
  <cp:lastModifiedBy>山崎 顕治</cp:lastModifiedBy>
  <dcterms:modified xsi:type="dcterms:W3CDTF">2004-01-11T18:15:04Z</dcterms:modified>
  <cp:revision>3</cp:revision>
  <dc:subject/>
  <dc:title>PowerPoint プレゼンテーション</dc:title>
</cp:coreProperties>
</file>