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AB6B-3996-454C-8D04-3EBDF01E5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BA3E-59AC-40CC-8B68-5D617EE2A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C57A-7B24-43AF-994B-AEDAB4B84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C1FD-CEC4-401C-A40E-0A8C4B894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826E-B916-4795-A480-5ED7BE90E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BC0E-3443-4B00-952C-526B9C4D1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54A6-927A-4A75-A99D-4D26DD824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3241-0949-43A6-8680-B8CE871E7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29D9-2719-457C-9209-40AAB6FEA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34C6-A3F5-425F-A144-7DA0CA093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2324-786F-4BDA-82F9-CD74EE3E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F4CD-EE76-48E6-8B43-98F60E406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177AB-6664-4E61-8529-5D6B882F72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の受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34136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9079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413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60280"/>
            <a:ext cx="1440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620640"/>
            <a:ext cx="2303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54936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620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v-&gt;InBu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836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v(s, buf, len, 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549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33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024)by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54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620640"/>
            <a:ext cx="9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32240" y="655560"/>
            <a:ext cx="3192120" cy="469800"/>
          </a:xfrm>
          <a:custGeom>
            <a:avLst/>
            <a:gdLst/>
            <a:ahLst/>
            <a:rect l="l" t="t" r="r" b="b"/>
            <a:pathLst>
              <a:path w="2154" h="311">
                <a:moveTo>
                  <a:pt x="106" y="205"/>
                </a:moveTo>
                <a:cubicBezTo>
                  <a:pt x="53" y="125"/>
                  <a:pt x="0" y="46"/>
                  <a:pt x="151" y="23"/>
                </a:cubicBezTo>
                <a:cubicBezTo>
                  <a:pt x="302" y="0"/>
                  <a:pt x="711" y="23"/>
                  <a:pt x="1013" y="69"/>
                </a:cubicBezTo>
                <a:cubicBezTo>
                  <a:pt x="1315" y="115"/>
                  <a:pt x="1776" y="281"/>
                  <a:pt x="1965" y="296"/>
                </a:cubicBezTo>
                <a:cubicBezTo>
                  <a:pt x="2154" y="311"/>
                  <a:pt x="2150" y="235"/>
                  <a:pt x="2147" y="1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98100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9810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148428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X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2060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T_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6836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558972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5661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6308640"/>
            <a:ext cx="30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len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READAMOU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6237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558972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80000" y="54450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515772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6165720"/>
            <a:ext cx="2448000" cy="503280"/>
          </a:xfrm>
          <a:prstGeom prst="wedgeRoundRectCallout">
            <a:avLst>
              <a:gd name="adj1" fmla="val 75745"/>
              <a:gd name="adj2" fmla="val -910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受信し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実パケット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5157720"/>
            <a:ext cx="165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8720" y="479736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000" y="429264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429264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429264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378936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3933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3933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24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800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3860640"/>
            <a:ext cx="201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80000" y="472428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67280" y="479736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otal_packet_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35640" y="342900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80000" y="278136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278136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278136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8560" y="2781360"/>
            <a:ext cx="64764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2276640"/>
            <a:ext cx="24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184464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2732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4120" y="2349360"/>
            <a:ext cx="2651040" cy="1187640"/>
          </a:xfrm>
          <a:custGeom>
            <a:avLst/>
            <a:gdLst/>
            <a:ahLst/>
            <a:rect l="l" t="t" r="r" b="b"/>
            <a:pathLst>
              <a:path w="1670" h="748">
                <a:moveTo>
                  <a:pt x="53" y="0"/>
                </a:moveTo>
                <a:cubicBezTo>
                  <a:pt x="26" y="189"/>
                  <a:pt x="0" y="378"/>
                  <a:pt x="189" y="499"/>
                </a:cubicBezTo>
                <a:cubicBezTo>
                  <a:pt x="378" y="620"/>
                  <a:pt x="953" y="702"/>
                  <a:pt x="1187" y="725"/>
                </a:cubicBezTo>
                <a:cubicBezTo>
                  <a:pt x="1421" y="748"/>
                  <a:pt x="1520" y="688"/>
                  <a:pt x="1595" y="635"/>
                </a:cubicBezTo>
                <a:cubicBezTo>
                  <a:pt x="1670" y="582"/>
                  <a:pt x="1655" y="495"/>
                  <a:pt x="1640" y="4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4437000"/>
            <a:ext cx="2447640" cy="576360"/>
          </a:xfrm>
          <a:prstGeom prst="wedgeRoundRectCallout">
            <a:avLst>
              <a:gd name="adj1" fmla="val 75745"/>
              <a:gd name="adj2" fmla="val -48347"/>
              <a:gd name="adj3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2924280"/>
            <a:ext cx="1800000" cy="576000"/>
          </a:xfrm>
          <a:prstGeom prst="wedgeRoundRectCallout">
            <a:avLst>
              <a:gd name="adj1" fmla="val 74513"/>
              <a:gd name="adj2" fmla="val 13083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渡されてきたプレーンデータを返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8-17T15:12:43Z</dcterms:modified>
  <cp:revision>343</cp:revision>
  <dc:subject/>
  <dc:title>DDEのしくみ</dc:title>
</cp:coreProperties>
</file>