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B9BDC-8C73-4A6B-BBBB-03F3520C9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9A83A-AC06-4C96-8391-215708FF6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AA4B9-0CFC-4FCC-B3F8-8073EE105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20AE1-4E6E-4363-A9D1-AFE4607C5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DF5F6-2AF3-4185-A038-5B167EE82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BA6BB-8002-4D5D-BEE8-8BD5B6839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D1802-32C5-4470-BECC-A400F5670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87051-DD44-47F6-9A39-32F147E99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D10E0-6416-4F2B-97DD-E48D633DC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D2D7F-B2B8-49F6-8678-6C931FF74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9E731-021C-4F7C-8D86-885EECD61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0178A-BC1F-48CC-9244-0E3E1E063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32294-FF16-4A5A-93C6-0F3ABE0EB8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DE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のフロー制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765000"/>
            <a:ext cx="115236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リモートホス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5480" y="105264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122560" y="765000"/>
            <a:ext cx="230328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98920" y="1052640"/>
            <a:ext cx="144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01840" y="1413000"/>
            <a:ext cx="1008360" cy="93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25480" y="1628640"/>
            <a:ext cx="187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041480" y="1341360"/>
            <a:ext cx="1225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受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98920" y="2133720"/>
            <a:ext cx="50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42920" y="2421000"/>
            <a:ext cx="1368360" cy="1152360"/>
          </a:xfrm>
          <a:prstGeom prst="wedgeRoundRectCallout">
            <a:avLst>
              <a:gd name="adj1" fmla="val 69143"/>
              <a:gd name="adj2" fmla="val -7424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使用中およびログ採取時は、バッファへ格納す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フルになると、最古のデータから上書きされ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771640" y="2565360"/>
            <a:ext cx="648000" cy="503280"/>
          </a:xfrm>
          <a:custGeom>
            <a:avLst/>
            <a:gdLst>
              <a:gd name="textAreaLeft" fmla="*/ 86760 w 648000"/>
              <a:gd name="textAreaRight" fmla="*/ 561240 w 648000"/>
              <a:gd name="textAreaTop" fmla="*/ 87840 h 503280"/>
              <a:gd name="textAreaBottom" fmla="*/ 3650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19640" y="2637000"/>
            <a:ext cx="1079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>
                <a:solidFill>
                  <a:srgbClr val="000000"/>
                </a:solidFill>
                <a:latin typeface="Arial"/>
              </a:rPr>
              <a:t>XTYP_ADVRE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96000" y="765000"/>
            <a:ext cx="273672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マクロプログラ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88000" y="1052640"/>
            <a:ext cx="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27640" y="1413000"/>
            <a:ext cx="144360" cy="936360"/>
          </a:xfrm>
          <a:custGeom>
            <a:avLst/>
            <a:gdLst>
              <a:gd name="textAreaLeft" fmla="*/ 0 w 144360"/>
              <a:gd name="textAreaRight" fmla="*/ 52200 w 144360"/>
              <a:gd name="textAreaTop" fmla="*/ 24120 h 936360"/>
              <a:gd name="textAreaBottom" fmla="*/ 91224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3280" y="191628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771640" y="3141720"/>
            <a:ext cx="1368720" cy="2872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アドバイズルー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140360" y="328464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932360" y="191592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987640" y="3789360"/>
            <a:ext cx="1368360" cy="1008000"/>
          </a:xfrm>
          <a:prstGeom prst="wedgeRoundRectCallout">
            <a:avLst>
              <a:gd name="adj1" fmla="val -3944"/>
              <a:gd name="adj2" fmla="val -8464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アドバイズループで、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の中身を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すべて、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マクロ（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クライアント）へ送信す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308720" y="1413000"/>
            <a:ext cx="1079640" cy="21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6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588000" y="2276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76720" y="2565360"/>
            <a:ext cx="1368360" cy="934920"/>
          </a:xfrm>
          <a:prstGeom prst="wedgeRoundRectCallout">
            <a:avLst>
              <a:gd name="adj1" fmla="val 73087"/>
              <a:gd name="adj2" fmla="val -7733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のデータをすべてリングバッファとして保存す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1640" y="5300640"/>
            <a:ext cx="3816360" cy="216000"/>
          </a:xfrm>
          <a:prstGeom prst="leftRightArrow">
            <a:avLst>
              <a:gd name="adj1" fmla="val 50000"/>
              <a:gd name="adj2" fmla="val 35173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843280" y="5661000"/>
            <a:ext cx="3744720" cy="79236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マクロコマンド”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sync”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で、同期されるのは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とマクロ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通信間のみ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リモートホストから大量にパケットが送られてき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ときは、データの取りこぼしが発生す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2-21T13:09:57Z</dcterms:modified>
  <cp:revision>157</cp:revision>
  <dc:subject/>
  <dc:title>DDEのしくみ</dc:title>
</cp:coreProperties>
</file>