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28A1-6509-49CE-8FF2-E1130DF43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7935-6905-411E-A37D-DF7C692AC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E461-2378-4B48-A3EF-7BFBAFA26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686E-2D99-4DBB-A026-657971CB2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8B15-50C7-4076-A79B-0E71FD914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DEB5-505A-466E-BBA4-E16BD43FA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190D-89FE-4328-BD8F-1BAE0CB83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3F19-8F6D-4E74-BA9E-CD4D6B82B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4522-4FE3-48B3-A34F-DB043F76E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A588-9F0F-4C4D-BA83-287A10D5C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8F59-E158-4CF0-9CE1-237795E8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61A6-4E2E-4DF3-81A7-7D59EDB3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17297-0F14-4B1A-ACBD-211804B05FA2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ライブラリ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56000" y="981000"/>
            <a:ext cx="1512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67280" y="1197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981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836640"/>
            <a:ext cx="3743280" cy="115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1557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472608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0920" y="49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67280" y="47260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penSS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4941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537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5157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z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5734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67280" y="5589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u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4581360"/>
            <a:ext cx="5616720" cy="158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SSH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モジュー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4130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479736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暗号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515772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圧縮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558972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a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連携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2637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67280" y="285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3280" y="2637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40000" y="2492280"/>
            <a:ext cx="3743280" cy="1152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3213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マクロ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06864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5:38:23Z</dcterms:modified>
  <cp:revision>78</cp:revision>
  <dc:subject/>
  <dc:title>TeraTermモジュール構成</dc:title>
</cp:coreProperties>
</file>