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8ED-EF76-4804-8BF4-6081EF31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DCD-F933-457D-B79E-61EDF75A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6E4-F70C-4C2C-92CD-90C7F75A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FCC-E093-4163-B3F3-8F97BDEA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3639-EA83-49B9-B7C0-3CA950A3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7C61-17DF-4809-93F9-E8DA94C5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89A-5293-49A2-AAC5-9C80ABAE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6854-4189-47C9-826C-5B7F5836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8D47-0A22-43D8-81F1-C03D9E48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DBEA-3886-4F80-8B1C-D3F66FE4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719A-1752-4D53-8D95-671D0606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217-33F6-4E54-959E-75E51230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9199-02D7-410C-9289-DB42D45DF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tegriography.com/" TargetMode="External"/><Relationship Id="rId2" Type="http://schemas.openxmlformats.org/officeDocument/2006/relationships/hyperlink" Target="http://windowsir.blogspot.com/2010/02/mft-analysis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F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ntegriography.com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indowsir.blogspot.com/2010/02/mft-analysi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M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ten by David Kovar, C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tool to parse $M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ses the attributes of each file in an NTFS fil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is really g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V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least 50 entries for each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by other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- if the entry is val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e - if the entry is a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type - the type of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Sequence - the sequence number for the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Folder Recor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Folder Sequence Numb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standard information attribut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c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up to four file name record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c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Volume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Object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Domain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flags to show if each of the following attributes is present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 Information, Attribute List, Filename, Object ID, Volume Name, Volume Info, Data, Index Root, Index Allocation, Bitmap, Reparse Point, EA Information, EA, Property Set, Logged Utility 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s/Log - Field used to log any significant events or observations relating to this reco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d-fn-shift - Populated if anomaly detection is turned on. Y/N. Y indicates that the FN create date is later than the STD create d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c-zero - Populated if anomaly detection is turned on. Y/N. Y indicates that the STD create date's microsecond value is zer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told you s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0575","Good","Inactive","0","5422 - 5426","3","TRANSFERMGR.EXE-24D2A23F.pf","2009/12/27 18:35:57.625000","2009/12/28 05:32:01.390625","2009/12/27 18:35:57.625000","2009/12/28 05:32:01.390625","2009/12/27 18:35:57.625000","2009/12/27 18:35:57.625000","2009/12/27 18:35:57.625000","2009/12/27 18:35:57.625000","","","","","TRANSFERMGR.EXE-24D2A23F.pf","2009/12/27 18:35:57.625000","2009/12/27 18:35:57.625000","2009/12/27 18:35:57.625000","2009/12/27 18:35:57.625000","","","","","","","","","","","True","False","False","False","False","False","True","False","False","False","False","False","False","False","False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ge: analyzeMFT.py [option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, --help show this help message and ex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f FILE, --file=FILE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ad MFT from F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o FILE, --output=FI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results to 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, --anomaly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rn on anomaly det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b FILE, --bodyfile=FI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MAC information to body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g, --gui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GUI for file se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d, --debu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urn on debugging 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he M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MF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 David Kov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iography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ython c:\bin\analyzeMFT.py –f ntfs.mft –o mft.t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2:31:27Z</dcterms:created>
  <dc:creator>Ackler</dc:creator>
  <dc:description/>
  <dc:language>en-US</dc:language>
  <cp:lastModifiedBy>Lynn</cp:lastModifiedBy>
  <dcterms:modified xsi:type="dcterms:W3CDTF">2012-10-23T17:43:34Z</dcterms:modified>
  <cp:revision>11</cp:revision>
  <dc:subject/>
  <dc:title>MFT Analysis</dc:title>
</cp:coreProperties>
</file>