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C5C-028E-45B4-A2AB-6148BD85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4DB-7BBD-4289-B08E-F28FC6BD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F364-6878-414C-901A-6E0BAB2C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8BB-FE36-4CFC-8CBE-07B978F9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27E1-7598-40F9-9869-1D8FABC3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F7B2-77B5-48EB-88A6-C6CA39F5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F74-68EF-4E27-8840-5F7F4C98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E496-20D3-47AD-8F91-63CF76F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2030-E621-4D3F-ACD1-5654B38D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593C-DA82-4D92-A103-A0170BB8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9CA0-6BDD-491C-8200-5987CE6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5EC-5F0B-47E9-B5EB-CEC3A137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269C-3C94-45FE-9A97-EE0C68B5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7E96-4BA6-4CEA-84E1-E1CDDBB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88F2-8E39-4BD2-B98D-CBC19874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3BEC-455C-41FD-AA22-0B3CA526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D345-0392-4F7D-A8E7-9D75F854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523-F15F-4B57-82DD-63CCBD3A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8BA-F394-4980-B620-BABD8E74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388-A840-4503-84AE-42E197BB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5CA-C861-45D8-A0C2-834411FC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041-C643-4F9E-A522-FBF706C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6C3-2C54-4FEE-9FA6-2900151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BE2F-8DAB-4B81-8B67-32154920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499E-04C2-40B2-971F-0106B54FF9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B58F-E378-4894-879E-C392B44889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Fore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s per secto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0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200 = 512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ors per clust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 0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sectors 0x 00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24680" y="251460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3581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: Media Descriptor:  F8 is hard drive, F0 is flo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Total number of sectors: F7AF4E090000000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00094EAFF7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6,151,799 sectors, i.e. ~8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7692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2578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: Logical cluster number for MFT copy 1: cluster C07FE9 (File $M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: Logical cluster number for MFT copy 2: cluster 40029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4800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63868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: Clusters per MFT record: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: Volume Seri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9436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ur entries are replicated, so that MFT can be re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16 records are reserved for metadata files, their name begins with a dollar sign ($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$M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mirror $MftMir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file $Log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$Volume Attribute definitions $AttrD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ot folder “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bitmap $Bit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t sector $Boot (located at the beginning of parti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cluster file $BadC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ile $Sec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case table $Up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extension file $Extend, that is used for future u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77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are 1KB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4800600"/>
          <a:ext cx="8153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8153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iles (&lt;900B) are contained completely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25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ders contain index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folders reside within the MFT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folders have an index structure to other data blocks. They use a B-tree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R and GPT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disks for 32b 86x-compat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T disks for 64b Itanium proces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 MBR in order to maintain compat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R has a single partition with a partition table entry of 0x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ntry has address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uses the file reference address to refer to MTF en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system crashes during allocation, then the sequence number describes whether the MTF entry belonged to the previous file or to the current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5029200"/>
          <a:ext cx="830592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29200"/>
                    <a:ext cx="83059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attributes are loosely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ttribute is preceded by the attribute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ttribute header identif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ribute header gives basic information about the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ident attribute is stored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on-resident entry is stored in a cluster outside the M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4508640"/>
          <a:ext cx="76201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08640"/>
                    <a:ext cx="76201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attributes are stored in MFT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sident attributes are stored in cluster ru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run consists of consecutive clusters and are identified by starting cluster and run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distinguishes between Virtual Cluster Numbers and Logical Cluster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* (#sectors in cluster) = sector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0 is first cluster in the volume (boot sect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N 0 refers to the first cluster in a cluster r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header has a fix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3276720"/>
          <a:ext cx="761976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6197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0 - 0x03: Magic Number: "FILE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8-0x0f: $LogFile Sequence Number (LS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2 - 0x13: Hard link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6 - 0x17: Flags: 0x01: record in use, 0x02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c-ox2f: (XP) Number of this MF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36576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47242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FT records start with “FILE”.  A bad cluster would start with “BA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9920" y="0"/>
            <a:ext cx="600408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96216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5105520"/>
            <a:ext cx="784872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4-5: Offset to updat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6-7: Number of entries in fixu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8-f: Log file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0-0x11: Sequence number: 59 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5800" y="5105520"/>
            <a:ext cx="784872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2-0x13: 2 – hard link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-0x15: Offset to first attribute: 0x 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6-0x17: Flags: In use and contains a directory 0x 0001 | 0x 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105520"/>
            <a:ext cx="82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 – 0x15: First attribute starts at 0x 38 0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x 00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List of possib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$AttrDef entry of MFT, but defaul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 STANDARD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20$ATTRIBUTE_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30$FILE_NAME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40 (NT) $VOLUME_VERSION (2K) $OBJECT_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50 $SECURITY_DESCRIP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60$VOLUME_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70 $VOLUME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80$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90$INDEX_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A0$INDEX_ALLO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B0$BIT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C0 (NT) $SYMBOLIC_LINK, (2K) $REPARSE_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D0$EA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E0$EA0xF0NT$PROPERTY_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0 (2K) $LOGGED_UTILITY_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can be resident or non-resi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ning is always the s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0 Attribute Type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4 Length of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8 non-resident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9 length of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a offset to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c f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of type 00 00 00 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0x 00 00 00 60 byte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resident (0x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0x 00 00 00 48 bytes long and start at offset 0x 00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1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743200"/>
          <a:ext cx="6095880" cy="3921120"/>
        </p:xfrm>
        <a:graphic>
          <a:graphicData uri="http://schemas.openxmlformats.org/drawingml/2006/table">
            <a:tbl>
              <a:tblPr/>
              <a:tblGrid>
                <a:gridCol w="990360"/>
                <a:gridCol w="533520"/>
                <a:gridCol w="533160"/>
                <a:gridCol w="40388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llows us to extract the file access times just as for 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values are in 100 nanoseconds since January 1, 1601 U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entry has attribute number 00 00 00 0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0000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FILE_NAM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ttribute length is 70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s start at offset 18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tent layout for the $FILE_NAME attribute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0 File reference to pa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8 File cre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10 File modific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0 File acces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8 Allocated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0 Real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8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0 File name length in unicode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2 File name in uni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Partition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915400" cy="9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3809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3581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parameters of NTFS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(5%-10% of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ion of attrib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can be resident or in the File System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, this is a short fil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attribute is also a file name, but this time the complete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5991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Layout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1828800" y="228600"/>
            <a:ext cx="7102440" cy="6459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6705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that the end of sector marker is 55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look for this to find boot sectors for NTFS and 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Instr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M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2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ed 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5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26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strap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1F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of Sector Mark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elds are not important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per sec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s pe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descriptor. F8: HD; F0: HD Flop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e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for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copy of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     Clusters per MFT Re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s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Hex allows access to an interpreted NTFS Boot S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Access T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57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22:41:17Z</dcterms:created>
  <dc:creator>Thomas Schwarz</dc:creator>
  <dc:description/>
  <dc:language>en-US</dc:language>
  <cp:lastModifiedBy>Thomas Schwarz</cp:lastModifiedBy>
  <dcterms:modified xsi:type="dcterms:W3CDTF">2006-05-01T19:23:00Z</dcterms:modified>
  <cp:revision>10</cp:revision>
  <dc:subject/>
  <dc:title>Computer Forensics</dc:title>
</cp:coreProperties>
</file>