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C194-706C-442A-A3C5-53390C36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D39-5AB2-4F60-8AC7-93B4EBB6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8EA-7BAA-473C-B8B9-7CC82925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1ED-B660-4361-ABD1-D583180C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2D4-978A-4203-B595-4542F95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0FF-93AA-49E2-AAD5-0FB8CA8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C38-6AC3-4E69-844A-7C3B3FC1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9EF-BE8B-4EA8-9D16-F436BE40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334-0C32-4F74-B3BF-04222252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54B-CA01-4773-89BD-C5A19F6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4EB-9789-4615-B55E-DD6238BC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A78-28C2-41CE-B38D-AC4228C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943F-6543-4B64-A729-931BD3E06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griography.com/" TargetMode="External"/><Relationship Id="rId2" Type="http://schemas.openxmlformats.org/officeDocument/2006/relationships/hyperlink" Target="http://windowsir.blogspot.com/2010/02/mft-analysi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egriography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sir.blogspot.com/2010/02/mft-analysi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David Kovar, C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tool to parse $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s the attributes of each file in an NTFS fi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s really g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50 entries for each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other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- if the entry is val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- if the entry is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type - the type of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Sequence - the sequence number for th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Sequence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standard information attribu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up to four file name record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Volume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Domai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lags to show if each of the following attributes is 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formation, Attribute List, Filename, Object ID, Volume Name, Volume Info, Data, Index Root, Index Allocation, Bitmap, Reparse Point, EA Information, EA, Property Set, Logged Utility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/Log - Field used to log any significant events or observations relating to this rec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-fn-shift - Populated if anomaly detection is turned on. Y/N. Y indicates that the FN create date is later than the STD create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c-zero - Populated if anomaly detection is turned on. Y/N. Y indicates that the STD create date's microsecond value is zer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old you s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575","Good","Inactive","0","5422 - 5426","3","TRANSFERMGR.EXE-24D2A23F.pf","2009/12/27 18:35:57.625000","2009/12/28 05:32:01.390625","2009/12/27 18:35:57.625000","2009/12/28 05:32:01.390625","2009/12/27 18:35:57.625000","2009/12/27 18:35:57.625000","2009/12/27 18:35:57.625000","2009/12/27 18:35:57.625000","","","","","TRANSFERMGR.EXE-24D2A23F.pf","2009/12/27 18:35:57.625000","2009/12/27 18:35:57.625000","2009/12/27 18:35:57.625000","2009/12/27 18:35:57.625000","","","","","","","","","","","True","False","False","False","False","False","True","False","False","False","False","False","False","False","Fals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nalyzeMFT.py [option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, --help show this help message and ex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 FILE, --file=FILE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d MFT from F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FILE, --output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results to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, --anomaly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rn on anomaly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b FILE, --bodyfile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C information to body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, --gui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GUI for fi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d, --debu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urn on debugging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M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David Kov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iography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ython c:\bin\analyzeMFT.py –f ntfs.mft –o mf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2:31:27Z</dcterms:created>
  <dc:creator>Ackler</dc:creator>
  <dc:description/>
  <dc:language>en-US</dc:language>
  <cp:lastModifiedBy>Lynn</cp:lastModifiedBy>
  <dcterms:modified xsi:type="dcterms:W3CDTF">2012-10-23T17:43:34Z</dcterms:modified>
  <cp:revision>11</cp:revision>
  <dc:subject/>
  <dc:title>MFT Analysis</dc:title>
</cp:coreProperties>
</file>