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6136-3471-44AA-8EEC-9528E68A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04B6-A09C-472A-BA9A-46B7F7EE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0CB-B15E-4C75-87F7-C5E29D03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4DE-44BF-49E5-BBFB-CD3C8F2BE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A175-6D8F-4C79-AD86-453C9A7B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8B8-EE66-481E-BADA-35864270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0026-DE20-4982-8D6A-3350E34F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1E8-8B1A-4CE9-B65C-B86CE34D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3BF1-3AB7-400D-9A85-5FAC7921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60B3-8129-4678-A584-ECF0932C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4A51-04E7-41CE-9882-31FFB321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11E-782C-46F3-BD20-DAB95C46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7ACB-3792-4553-A619-B48AE26AE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57200" y="1027080"/>
            <a:ext cx="8303400" cy="4763880"/>
            <a:chOff x="457200" y="1027080"/>
            <a:chExt cx="8303400" cy="4763880"/>
          </a:xfrm>
        </p:grpSpPr>
        <p:sp>
          <p:nvSpPr>
            <p:cNvPr id="43" name=""/>
            <p:cNvSpPr/>
            <p:nvPr/>
          </p:nvSpPr>
          <p:spPr>
            <a:xfrm>
              <a:off x="3304800" y="5180040"/>
              <a:ext cx="5455800" cy="61092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ava IO stre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"/>
            <p:cNvCxnSpPr>
              <a:stCxn id="45" idx="2"/>
              <a:endCxn id="46" idx="1"/>
            </p:cNvCxnSpPr>
            <p:nvPr/>
          </p:nvCxnSpPr>
          <p:spPr>
            <a:xfrm flipH="1" rot="16200000">
              <a:off x="2306880" y="1401480"/>
              <a:ext cx="334800" cy="1661760"/>
            </a:xfrm>
            <a:prstGeom prst="bent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7" name=""/>
            <p:cNvSpPr/>
            <p:nvPr/>
          </p:nvSpPr>
          <p:spPr>
            <a:xfrm>
              <a:off x="3304800" y="4332240"/>
              <a:ext cx="5455800" cy="61020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eeHEP IO stre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04800" y="2806920"/>
              <a:ext cx="5455800" cy="14238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eeHEP Graphics IO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w-level format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CGM, EMF, PDF and SW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04800" y="2094840"/>
              <a:ext cx="5455800" cy="6102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eHEP VectorGraph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7200" y="1027080"/>
              <a:ext cx="2372760" cy="10382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eHE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ortDia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04800" y="1027080"/>
              <a:ext cx="5455800" cy="6102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ava Graphics2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20:03:58Z</dcterms:modified>
  <cp:revision>27</cp:revision>
  <dc:subject/>
  <dc:title>Slide 1</dc:title>
</cp:coreProperties>
</file>