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863-67C8-456A-9C09-5E117AEF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F3A-6E77-4BB3-A2F8-B47839F1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B46E-1FC2-47A6-8DD7-A705255D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C9E-2D0E-4FDC-9504-959295A4A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8EEA-B9F6-4F37-B700-AD2FAB5A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59A-6ABE-4697-87CF-14990991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944-0E2C-4405-8133-E28CAD75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0869-6AF5-4F92-8D57-FB0D0CFD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ADF4-32AD-409D-B6D6-5C2CC727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D66C-18FC-40D3-88E1-5F7241A8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9117-0DDB-4E65-AC87-3948221C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DFA-AD44-4C57-B912-90CDE79D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3FE6-EF51-44B7-A7F6-DD8EDD1E9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419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7240" y="4736160"/>
            <a:ext cx="1969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41008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5334120"/>
            <a:ext cx="685800" cy="91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4480" y="926280"/>
            <a:ext cx="1384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60160" y="1764360"/>
            <a:ext cx="1753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3800" y="240480"/>
            <a:ext cx="1093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83480" y="926280"/>
            <a:ext cx="2780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ctorGraphics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5800" y="2515320"/>
            <a:ext cx="2591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7160" y="358200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3429000"/>
            <a:ext cx="5791320" cy="99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85280" y="4572720"/>
            <a:ext cx="2833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5334120"/>
            <a:ext cx="487692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4320" y="389808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" y="5944320"/>
            <a:ext cx="1845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2080" y="609660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P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62680" y="626040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48480" y="641268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24640" y="565056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30960" y="57920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02720" y="594432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44240" y="6085800"/>
            <a:ext cx="1767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45720" y="62492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V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2080" y="6401520"/>
            <a:ext cx="1971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6" idx="0"/>
            <a:endCxn id="48" idx="2"/>
          </p:cNvCxnSpPr>
          <p:nvPr/>
        </p:nvCxnSpPr>
        <p:spPr>
          <a:xfrm flipV="1" rot="16200000">
            <a:off x="3974760" y="764280"/>
            <a:ext cx="317880" cy="6480"/>
          </a:xfrm>
          <a:prstGeom prst="bentConnector3">
            <a:avLst>
              <a:gd name="adj1" fmla="val 5011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47" idx="0"/>
            <a:endCxn id="46" idx="2"/>
          </p:cNvCxnSpPr>
          <p:nvPr/>
        </p:nvCxnSpPr>
        <p:spPr>
          <a:xfrm rot="16200000">
            <a:off x="3902040" y="1529280"/>
            <a:ext cx="47016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0" idx="0"/>
            <a:endCxn id="47" idx="2"/>
          </p:cNvCxnSpPr>
          <p:nvPr/>
        </p:nvCxnSpPr>
        <p:spPr>
          <a:xfrm flipV="1" rot="16200000">
            <a:off x="3947760" y="2321280"/>
            <a:ext cx="383040" cy="5040"/>
          </a:xfrm>
          <a:prstGeom prst="bentConnector3">
            <a:avLst>
              <a:gd name="adj1" fmla="val 5004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7" idx="0"/>
            <a:endCxn id="49" idx="2"/>
          </p:cNvCxnSpPr>
          <p:nvPr/>
        </p:nvCxnSpPr>
        <p:spPr>
          <a:xfrm flipH="1" flipV="1" rot="5400000">
            <a:off x="5470200" y="-39240"/>
            <a:ext cx="470160" cy="3137400"/>
          </a:xfrm>
          <a:prstGeom prst="bentConnector5">
            <a:avLst>
              <a:gd name="adj1" fmla="val 51111"/>
              <a:gd name="adj2" fmla="val 41817"/>
              <a:gd name="adj3" fmla="val 49042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70" name=""/>
          <p:cNvCxnSpPr>
            <a:stCxn id="51" idx="0"/>
            <a:endCxn id="50" idx="2"/>
          </p:cNvCxnSpPr>
          <p:nvPr/>
        </p:nvCxnSpPr>
        <p:spPr>
          <a:xfrm flipH="1" flipV="1" rot="5400000">
            <a:off x="2603880" y="2044800"/>
            <a:ext cx="698760" cy="2376720"/>
          </a:xfrm>
          <a:prstGeom prst="bentConnector3">
            <a:avLst>
              <a:gd name="adj1" fmla="val 5005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0" idx="2"/>
          </p:cNvCxnSpPr>
          <p:nvPr/>
        </p:nvCxnSpPr>
        <p:spPr>
          <a:xfrm flipV="1" rot="16200000">
            <a:off x="4314600" y="2710440"/>
            <a:ext cx="1014840" cy="1361160"/>
          </a:xfrm>
          <a:prstGeom prst="bentConnector3">
            <a:avLst>
              <a:gd name="adj1" fmla="val 5003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43" idx="0"/>
            <a:endCxn id="51" idx="2"/>
          </p:cNvCxnSpPr>
          <p:nvPr/>
        </p:nvCxnSpPr>
        <p:spPr>
          <a:xfrm flipH="1" flipV="1" rot="5400000">
            <a:off x="1370520" y="4341600"/>
            <a:ext cx="786240" cy="3240"/>
          </a:xfrm>
          <a:prstGeom prst="bentConnector3">
            <a:avLst>
              <a:gd name="adj1" fmla="val 5002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7" idx="0"/>
            <a:endCxn id="43" idx="2"/>
          </p:cNvCxnSpPr>
          <p:nvPr/>
        </p:nvCxnSpPr>
        <p:spPr>
          <a:xfrm flipH="1" flipV="1" rot="5400000">
            <a:off x="1265760" y="5600520"/>
            <a:ext cx="992520" cy="720"/>
          </a:xfrm>
          <a:prstGeom prst="bentConnector3">
            <a:avLst>
              <a:gd name="adj1" fmla="val 5003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53" idx="0"/>
            <a:endCxn id="55" idx="2"/>
          </p:cNvCxnSpPr>
          <p:nvPr/>
        </p:nvCxnSpPr>
        <p:spPr>
          <a:xfrm rot="16200000">
            <a:off x="5349240" y="4419360"/>
            <a:ext cx="30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61" idx="0"/>
            <a:endCxn id="53" idx="2"/>
          </p:cNvCxnSpPr>
          <p:nvPr/>
        </p:nvCxnSpPr>
        <p:spPr>
          <a:xfrm flipV="1" rot="16200000">
            <a:off x="5077440" y="5365800"/>
            <a:ext cx="851400" cy="1800"/>
          </a:xfrm>
          <a:prstGeom prst="bentConnector3">
            <a:avLst>
              <a:gd name="adj1" fmla="val 5004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94720" y="53341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14640" y="3429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32200" y="9036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41360" y="3886920"/>
            <a:ext cx="22334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age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2" idx="0"/>
            <a:endCxn id="80" idx="2"/>
          </p:cNvCxnSpPr>
          <p:nvPr/>
        </p:nvCxnSpPr>
        <p:spPr>
          <a:xfrm flipH="1" flipV="1" rot="5400000">
            <a:off x="6165720" y="4251960"/>
            <a:ext cx="1689480" cy="1695960"/>
          </a:xfrm>
          <a:prstGeom prst="bentConnector3">
            <a:avLst>
              <a:gd name="adj1" fmla="val 5002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82" name=""/>
          <p:cNvCxnSpPr>
            <a:stCxn id="63" idx="0"/>
            <a:endCxn id="80" idx="2"/>
          </p:cNvCxnSpPr>
          <p:nvPr/>
        </p:nvCxnSpPr>
        <p:spPr>
          <a:xfrm flipH="1" flipV="1" rot="5400000">
            <a:off x="6377400" y="4605120"/>
            <a:ext cx="1830960" cy="11307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19:37:49Z</dcterms:modified>
  <cp:revision>28</cp:revision>
  <dc:subject/>
  <dc:title>Slide 1</dc:title>
</cp:coreProperties>
</file>