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5504-DB2D-46AB-B11F-5B0D10AA8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D87A-F160-48C6-AE00-E543265B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690A-E5A6-42CC-86FF-AF430A18A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4EE9-7BF8-4997-90B1-6E2E38DA9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93DC-0C5C-4C7A-871F-95DE45DA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2A9E-D3E1-4DA5-8EAB-C21523F1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784C-452E-4DBE-83EB-C755E664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05FE-10A0-482D-938C-4BAEF8D2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F4AE-CCDA-4DB8-B4BA-5FF48974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D6F1-142C-41BF-81B3-D367BD10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E681-3AB4-4B7C-A317-884F74B0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D14D-0845-407B-B149-34790A86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064C-3B59-4CAE-BB2D-4D95D1C87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58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581280"/>
            <a:ext cx="9144000" cy="32767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26760" y="4888800"/>
            <a:ext cx="1579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Font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099920" y="5639400"/>
            <a:ext cx="17323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Font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62000" y="2743920"/>
            <a:ext cx="12078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nt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71280" y="4050360"/>
            <a:ext cx="209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FontEmbe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360" y="6260400"/>
            <a:ext cx="2911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FontEmbedderTyp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63440" y="5650560"/>
            <a:ext cx="2911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FontEmbedderTyp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52240" y="4877640"/>
            <a:ext cx="2146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DFFontEmbe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64080" y="2743920"/>
            <a:ext cx="23234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EmbedderTyp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76480" y="1688400"/>
            <a:ext cx="16894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ntEmbe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8040" y="4039200"/>
            <a:ext cx="2024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FontInclu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68000" y="697680"/>
            <a:ext cx="1448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ntInclu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51" idx="0"/>
            <a:endCxn id="53" idx="2"/>
          </p:cNvCxnSpPr>
          <p:nvPr/>
        </p:nvCxnSpPr>
        <p:spPr>
          <a:xfrm flipV="1" rot="16200000">
            <a:off x="3095640" y="62640"/>
            <a:ext cx="622800" cy="2629080"/>
          </a:xfrm>
          <a:prstGeom prst="bentConnector3">
            <a:avLst>
              <a:gd name="adj1" fmla="val 50028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5" name=""/>
          <p:cNvCxnSpPr>
            <a:stCxn id="50" idx="0"/>
            <a:endCxn id="51" idx="2"/>
          </p:cNvCxnSpPr>
          <p:nvPr/>
        </p:nvCxnSpPr>
        <p:spPr>
          <a:xfrm flipH="1" flipV="1" rot="5400000">
            <a:off x="3529440" y="1552680"/>
            <a:ext cx="687600" cy="1695600"/>
          </a:xfrm>
          <a:prstGeom prst="bentConnector3">
            <a:avLst>
              <a:gd name="adj1" fmla="val 50026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6" name=""/>
          <p:cNvCxnSpPr>
            <a:stCxn id="47" idx="0"/>
            <a:endCxn id="50" idx="2"/>
          </p:cNvCxnSpPr>
          <p:nvPr/>
        </p:nvCxnSpPr>
        <p:spPr>
          <a:xfrm flipH="1" flipV="1" rot="5400000">
            <a:off x="765720" y="4000320"/>
            <a:ext cx="3148560" cy="1371960"/>
          </a:xfrm>
          <a:prstGeom prst="bentConnector3">
            <a:avLst>
              <a:gd name="adj1" fmla="val 50005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7" name=""/>
          <p:cNvCxnSpPr>
            <a:stCxn id="43" idx="0"/>
            <a:endCxn id="45" idx="2"/>
          </p:cNvCxnSpPr>
          <p:nvPr/>
        </p:nvCxnSpPr>
        <p:spPr>
          <a:xfrm flipH="1" flipV="1" rot="5400000">
            <a:off x="6502680" y="3425760"/>
            <a:ext cx="1776960" cy="1149480"/>
          </a:xfrm>
          <a:prstGeom prst="bentConnector3">
            <a:avLst>
              <a:gd name="adj1" fmla="val 50010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8" name=""/>
          <p:cNvCxnSpPr>
            <a:stCxn id="44" idx="0"/>
            <a:endCxn id="45" idx="2"/>
          </p:cNvCxnSpPr>
          <p:nvPr/>
        </p:nvCxnSpPr>
        <p:spPr>
          <a:xfrm flipV="1" rot="16200000">
            <a:off x="6702120" y="4375440"/>
            <a:ext cx="2527560" cy="720"/>
          </a:xfrm>
          <a:prstGeom prst="bentConnector3">
            <a:avLst>
              <a:gd name="adj1" fmla="val 5001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9" idx="0"/>
            <a:endCxn id="50" idx="2"/>
          </p:cNvCxnSpPr>
          <p:nvPr/>
        </p:nvCxnSpPr>
        <p:spPr>
          <a:xfrm flipV="1" rot="16200000">
            <a:off x="2342880" y="3795120"/>
            <a:ext cx="1765800" cy="399960"/>
          </a:xfrm>
          <a:prstGeom prst="bentConnector3">
            <a:avLst>
              <a:gd name="adj1" fmla="val 50020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8" idx="0"/>
            <a:endCxn id="49" idx="2"/>
          </p:cNvCxnSpPr>
          <p:nvPr/>
        </p:nvCxnSpPr>
        <p:spPr>
          <a:xfrm flipH="1" flipV="1" rot="5400000">
            <a:off x="3219840" y="5445360"/>
            <a:ext cx="405000" cy="6480"/>
          </a:xfrm>
          <a:prstGeom prst="bentConnector3">
            <a:avLst>
              <a:gd name="adj1" fmla="val 50088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6" idx="0"/>
            <a:endCxn id="51" idx="2"/>
          </p:cNvCxnSpPr>
          <p:nvPr/>
        </p:nvCxnSpPr>
        <p:spPr>
          <a:xfrm rot="16200000">
            <a:off x="3724200" y="3053520"/>
            <a:ext cx="199404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52" idx="0"/>
            <a:endCxn id="53" idx="2"/>
          </p:cNvCxnSpPr>
          <p:nvPr/>
        </p:nvCxnSpPr>
        <p:spPr>
          <a:xfrm flipH="1" flipV="1" rot="5400000">
            <a:off x="189360" y="2136600"/>
            <a:ext cx="2973600" cy="832320"/>
          </a:xfrm>
          <a:prstGeom prst="bentConnector3">
            <a:avLst>
              <a:gd name="adj1" fmla="val 50006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63" name=""/>
          <p:cNvSpPr/>
          <p:nvPr/>
        </p:nvSpPr>
        <p:spPr>
          <a:xfrm>
            <a:off x="6710760" y="624852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3160" y="152280"/>
            <a:ext cx="289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io.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1:28:06Z</dcterms:created>
  <dc:creator>duns</dc:creator>
  <dc:description/>
  <dc:language>en-US</dc:language>
  <cp:lastModifiedBy>duns</cp:lastModifiedBy>
  <dcterms:modified xsi:type="dcterms:W3CDTF">2003-03-22T01:18:21Z</dcterms:modified>
  <cp:revision>26</cp:revision>
  <dc:subject/>
  <dc:title>Slide 1</dc:title>
</cp:coreProperties>
</file>