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0F97A-8295-4F72-A291-DAAE7BB8A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CA7-6730-44EE-AB88-F7F8D36C9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BA564-04F2-48BC-A23B-1BFC065A4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939EE-353F-45FA-A110-C1C75EBF5B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34A6F-D607-4DED-9AC3-9DEE0BCA1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5052C-0B9F-41CF-B86B-1B3245FB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8FC5-9CB7-42ED-95A9-5A5B3199A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7CE0A-F9D7-4E43-BF01-6189C28C2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2596-2BAD-40C0-B817-8F9AB48CEE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665CF-CF56-4215-BB78-530EF86082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7D8F-5E81-4FE9-919D-63AF8FD36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13D2D-C9B4-49AC-84E0-5F01588ED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62A2A-CFB2-4483-BA95-4C16F106FE0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514600" y="1720800"/>
            <a:ext cx="129528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505320" y="806400"/>
            <a:ext cx="1295280" cy="914400"/>
          </a:xfrm>
          <a:custGeom>
            <a:avLst/>
            <a:gdLst/>
            <a:ahLst/>
            <a:rect l="l" t="t" r="r" b="b"/>
            <a:pathLst>
              <a:path w="816" h="528">
                <a:moveTo>
                  <a:pt x="0" y="528"/>
                </a:moveTo>
                <a:cubicBezTo>
                  <a:pt x="148" y="500"/>
                  <a:pt x="296" y="472"/>
                  <a:pt x="432" y="384"/>
                </a:cubicBezTo>
                <a:cubicBezTo>
                  <a:pt x="568" y="296"/>
                  <a:pt x="692" y="148"/>
                  <a:pt x="816" y="0"/>
                </a:cubicBezTo>
              </a:path>
            </a:pathLst>
          </a:custGeom>
          <a:noFill/>
          <a:ln w="15840">
            <a:solidFill>
              <a:srgbClr val="000000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498920" y="228600"/>
            <a:ext cx="337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ght-click on a pattern to edit 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487692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365200" y="3886200"/>
            <a:ext cx="2921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ecific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946840" y="3886200"/>
            <a:ext cx="2856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mplementation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ternal view of the patte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 flipV="1">
            <a:off x="5867280" y="3657240"/>
            <a:ext cx="45720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0" name=""/>
          <p:cNvSpPr/>
          <p:nvPr/>
        </p:nvSpPr>
        <p:spPr>
          <a:xfrm>
            <a:off x="4724280" y="1371600"/>
            <a:ext cx="1295640" cy="22860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3352680" y="1523880"/>
            <a:ext cx="13716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503520" y="1295280"/>
            <a:ext cx="11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H="1" flipV="1">
            <a:off x="7264440" y="1593720"/>
            <a:ext cx="1440" cy="4795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953400" y="2054160"/>
            <a:ext cx="1670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nguage to implement a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2181240"/>
            <a:ext cx="1611360" cy="35568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168640" y="3822840"/>
            <a:ext cx="6543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query is applied on a resource (e.g., ecore model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 parameter gets the value of each query recor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ach parameter value is processed by the pattern implemen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arameter type = model element or Java ty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565520" y="2598480"/>
            <a:ext cx="719280" cy="1251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198360" y="1082520"/>
            <a:ext cx="4676760" cy="27212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749160" y="4119480"/>
            <a:ext cx="5297760" cy="1236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2" name="" descr=""/>
          <p:cNvPicPr/>
          <p:nvPr/>
        </p:nvPicPr>
        <p:blipFill>
          <a:blip r:embed="rId3"/>
          <a:stretch/>
        </p:blipFill>
        <p:spPr>
          <a:xfrm>
            <a:off x="5065560" y="457200"/>
            <a:ext cx="2646360" cy="2244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3" name="" descr=""/>
          <p:cNvPicPr/>
          <p:nvPr/>
        </p:nvPicPr>
        <p:blipFill>
          <a:blip r:embed="rId4"/>
          <a:stretch/>
        </p:blipFill>
        <p:spPr>
          <a:xfrm>
            <a:off x="5421240" y="2320920"/>
            <a:ext cx="2826000" cy="1903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4" name=""/>
          <p:cNvSpPr/>
          <p:nvPr/>
        </p:nvSpPr>
        <p:spPr>
          <a:xfrm>
            <a:off x="2730600" y="927000"/>
            <a:ext cx="223560" cy="4730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1617840" y="674640"/>
            <a:ext cx="217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 method orchest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443320" y="1482840"/>
            <a:ext cx="114588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0" y="56498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 flipH="1">
            <a:off x="742680" y="1954080"/>
            <a:ext cx="1927080" cy="157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flipH="1">
            <a:off x="749160" y="2157480"/>
            <a:ext cx="1927440" cy="1569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3122640" y="2681280"/>
            <a:ext cx="1440" cy="1281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2478240" y="2351160"/>
            <a:ext cx="167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ed on a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549360" y="5357520"/>
            <a:ext cx="380880" cy="2761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666720" y="10328400"/>
            <a:ext cx="1797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ay Hello” from super-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 flipV="1">
            <a:off x="1744200" y="534204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171440" y="564372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dy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460600" y="5643720"/>
            <a:ext cx="161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om “HelloFriends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 flipV="1">
            <a:off x="3115800" y="5319720"/>
            <a:ext cx="3240" cy="342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 flipV="1">
            <a:off x="4327560" y="5342040"/>
            <a:ext cx="288720" cy="350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040280" y="5651640"/>
            <a:ext cx="1347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ish” fr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urrent patter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720960" y="852120"/>
            <a:ext cx="1333800" cy="120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5514840" y="3708360"/>
            <a:ext cx="242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ameter matching between Hello and HelloFriends patter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5946840" y="5167440"/>
            <a:ext cx="490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380280" y="5018040"/>
            <a:ext cx="2577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cess for one Class of the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152280" y="654120"/>
            <a:ext cx="8763120" cy="300348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85" name=""/>
          <p:cNvSpPr/>
          <p:nvPr/>
        </p:nvSpPr>
        <p:spPr>
          <a:xfrm>
            <a:off x="2112840" y="1276200"/>
            <a:ext cx="451080" cy="1268640"/>
          </a:xfrm>
          <a:custGeom>
            <a:avLst/>
            <a:gdLst/>
            <a:ahLst/>
            <a:rect l="l" t="t" r="r" b="b"/>
            <a:pathLst>
              <a:path w="284" h="799">
                <a:moveTo>
                  <a:pt x="284" y="797"/>
                </a:moveTo>
                <a:cubicBezTo>
                  <a:pt x="239" y="798"/>
                  <a:pt x="194" y="799"/>
                  <a:pt x="156" y="782"/>
                </a:cubicBezTo>
                <a:cubicBezTo>
                  <a:pt x="118" y="765"/>
                  <a:pt x="81" y="738"/>
                  <a:pt x="57" y="697"/>
                </a:cubicBezTo>
                <a:cubicBezTo>
                  <a:pt x="33" y="656"/>
                  <a:pt x="18" y="618"/>
                  <a:pt x="10" y="537"/>
                </a:cubicBezTo>
                <a:cubicBezTo>
                  <a:pt x="2" y="456"/>
                  <a:pt x="0" y="286"/>
                  <a:pt x="10" y="211"/>
                </a:cubicBezTo>
                <a:cubicBezTo>
                  <a:pt x="20" y="136"/>
                  <a:pt x="44" y="117"/>
                  <a:pt x="71" y="84"/>
                </a:cubicBezTo>
                <a:cubicBezTo>
                  <a:pt x="98" y="51"/>
                  <a:pt x="150" y="26"/>
                  <a:pt x="175" y="13"/>
                </a:cubicBezTo>
                <a:cubicBezTo>
                  <a:pt x="200" y="0"/>
                  <a:pt x="215" y="9"/>
                  <a:pt x="222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409760" y="1413000"/>
            <a:ext cx="1123920" cy="1374480"/>
          </a:xfrm>
          <a:custGeom>
            <a:avLst/>
            <a:gdLst/>
            <a:ahLst/>
            <a:rect l="l" t="t" r="r" b="b"/>
            <a:pathLst>
              <a:path w="708" h="866">
                <a:moveTo>
                  <a:pt x="708" y="852"/>
                </a:moveTo>
                <a:cubicBezTo>
                  <a:pt x="643" y="859"/>
                  <a:pt x="579" y="866"/>
                  <a:pt x="528" y="847"/>
                </a:cubicBezTo>
                <a:cubicBezTo>
                  <a:pt x="477" y="828"/>
                  <a:pt x="435" y="818"/>
                  <a:pt x="401" y="739"/>
                </a:cubicBezTo>
                <a:cubicBezTo>
                  <a:pt x="367" y="660"/>
                  <a:pt x="348" y="472"/>
                  <a:pt x="325" y="371"/>
                </a:cubicBezTo>
                <a:cubicBezTo>
                  <a:pt x="302" y="270"/>
                  <a:pt x="294" y="193"/>
                  <a:pt x="264" y="135"/>
                </a:cubicBezTo>
                <a:cubicBezTo>
                  <a:pt x="234" y="77"/>
                  <a:pt x="190" y="42"/>
                  <a:pt x="146" y="21"/>
                </a:cubicBezTo>
                <a:cubicBezTo>
                  <a:pt x="102" y="0"/>
                  <a:pt x="51" y="3"/>
                  <a:pt x="0" y="7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140360" y="2317680"/>
            <a:ext cx="4680" cy="65412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3095280" y="2978280"/>
            <a:ext cx="1058760" cy="2880"/>
          </a:xfrm>
          <a:prstGeom prst="line">
            <a:avLst/>
          </a:prstGeom>
          <a:ln w="1908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3700440" y="2319480"/>
            <a:ext cx="43992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733920" y="1860480"/>
            <a:ext cx="317520" cy="777960"/>
          </a:xfrm>
          <a:custGeom>
            <a:avLst/>
            <a:gdLst/>
            <a:ahLst/>
            <a:rect l="l" t="t" r="r" b="b"/>
            <a:pathLst>
              <a:path w="200" h="536">
                <a:moveTo>
                  <a:pt x="144" y="536"/>
                </a:moveTo>
                <a:cubicBezTo>
                  <a:pt x="164" y="508"/>
                  <a:pt x="184" y="480"/>
                  <a:pt x="192" y="440"/>
                </a:cubicBezTo>
                <a:cubicBezTo>
                  <a:pt x="200" y="400"/>
                  <a:pt x="200" y="360"/>
                  <a:pt x="192" y="296"/>
                </a:cubicBezTo>
                <a:cubicBezTo>
                  <a:pt x="184" y="232"/>
                  <a:pt x="168" y="104"/>
                  <a:pt x="144" y="56"/>
                </a:cubicBezTo>
                <a:cubicBezTo>
                  <a:pt x="120" y="8"/>
                  <a:pt x="72" y="16"/>
                  <a:pt x="48" y="8"/>
                </a:cubicBezTo>
                <a:cubicBezTo>
                  <a:pt x="24" y="0"/>
                  <a:pt x="0" y="0"/>
                  <a:pt x="0" y="8"/>
                </a:cubicBez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89800" y="3759120"/>
            <a:ext cx="6447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 the production plan, a task invocation gives values to a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le to process patter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2533680" y="2247840"/>
            <a:ext cx="114624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354400" y="2914560"/>
            <a:ext cx="718920" cy="13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H="1">
            <a:off x="1482480" y="3954600"/>
            <a:ext cx="439560" cy="288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H="1">
            <a:off x="1458720" y="4656240"/>
            <a:ext cx="4395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080440" y="4475160"/>
            <a:ext cx="6436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specific pattern task expect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A domain model = model UR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A pattern re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A reporter for displaying the result of the pattern exec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e.g., console, fi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2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5T00:10:58Z</dcterms:modified>
  <cp:revision>4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