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F7E8B-FA77-4165-AE5A-6D9064C07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BC4AA-EC0B-4AD3-B66F-50127CA0EE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3DE5E-9727-4CF3-9278-FCC5A0EB5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A385-B9FB-465C-8A2A-B460414568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8130-7B3B-4885-869D-A8C4ED1F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90AF-1B02-4B40-A8C8-1DA14B80A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6179F-7D46-4374-9FA2-14BF0D9E5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7941F-8284-4C50-8971-1C02F66ED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0DEC-EAFF-46D1-A404-6F7246EE3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98A91-B688-467C-A5F1-1B123E3E2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4B9C-D3FD-42D1-BA17-E292963B5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E45F1-84D4-4CD6-B9FD-8FAB43B11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54AD0-3997-44DE-8836-8276617A7C5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152280" y="1066680"/>
            <a:ext cx="3757680" cy="23623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2" name=""/>
          <p:cNvSpPr/>
          <p:nvPr/>
        </p:nvSpPr>
        <p:spPr>
          <a:xfrm>
            <a:off x="2057400" y="2209680"/>
            <a:ext cx="76320" cy="609840"/>
          </a:xfrm>
          <a:custGeom>
            <a:avLst/>
            <a:gdLst>
              <a:gd name="textAreaLeft" fmla="*/ 0 w 76320"/>
              <a:gd name="textAreaRight" fmla="*/ 27360 w 7632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2286000" y="2362320"/>
            <a:ext cx="190512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193280" y="1828800"/>
            <a:ext cx="3177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core = egf fil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container of EGF activities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.e. factory component or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057400" y="3048120"/>
            <a:ext cx="76320" cy="457200"/>
          </a:xfrm>
          <a:custGeom>
            <a:avLst/>
            <a:gdLst>
              <a:gd name="textAreaLeft" fmla="*/ 0 w 76320"/>
              <a:gd name="textAreaRight" fmla="*/ 27360 w 76320"/>
              <a:gd name="textAreaTop" fmla="*/ 11880 h 457200"/>
              <a:gd name="textAreaBottom" fmla="*/ 445320 h 457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2286000" y="3352680"/>
            <a:ext cx="1905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75640" y="3124080"/>
            <a:ext cx="313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project must be a bund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304920" y="5335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49" name=""/>
          <p:cNvSpPr/>
          <p:nvPr/>
        </p:nvSpPr>
        <p:spPr>
          <a:xfrm flipH="1">
            <a:off x="1980720" y="838080"/>
            <a:ext cx="2667240" cy="1526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727160" y="609480"/>
            <a:ext cx="21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Factory 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 flipH="1">
            <a:off x="1980720" y="1143000"/>
            <a:ext cx="26672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27160" y="914400"/>
            <a:ext cx="373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Production plan = simple workflow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2 task invocations of the same 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304920" y="2141640"/>
            <a:ext cx="430524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54" name=""/>
          <p:cNvSpPr/>
          <p:nvPr/>
        </p:nvSpPr>
        <p:spPr>
          <a:xfrm flipH="1">
            <a:off x="1981080" y="2514600"/>
            <a:ext cx="2743200" cy="76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726080" y="2300400"/>
            <a:ext cx="676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H="1">
            <a:off x="2361960" y="2895480"/>
            <a:ext cx="2361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4725720" y="2666880"/>
            <a:ext cx="333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= task parame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 flipH="1" flipV="1">
            <a:off x="1828440" y="3047760"/>
            <a:ext cx="289548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727520" y="3124080"/>
            <a:ext cx="284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contract ty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t can have a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228600" y="3827520"/>
            <a:ext cx="3733920" cy="2878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4727160" y="4495680"/>
            <a:ext cx="401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he default type list proposed by EG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is enrichable by contrib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228600" y="3200400"/>
            <a:ext cx="4114800" cy="220680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2"/>
          <a:stretch/>
        </p:blipFill>
        <p:spPr>
          <a:xfrm>
            <a:off x="4495680" y="117360"/>
            <a:ext cx="4397400" cy="117792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4" name="" descr=""/>
          <p:cNvPicPr/>
          <p:nvPr/>
        </p:nvPicPr>
        <p:blipFill>
          <a:blip r:embed="rId3"/>
          <a:stretch/>
        </p:blipFill>
        <p:spPr>
          <a:xfrm>
            <a:off x="152280" y="304920"/>
            <a:ext cx="410688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pic>
        <p:nvPicPr>
          <p:cNvPr id="65" name="" descr=""/>
          <p:cNvPicPr/>
          <p:nvPr/>
        </p:nvPicPr>
        <p:blipFill>
          <a:blip r:embed="rId4"/>
          <a:stretch/>
        </p:blipFill>
        <p:spPr>
          <a:xfrm>
            <a:off x="4495680" y="1447920"/>
            <a:ext cx="4305600" cy="98244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66" name=""/>
          <p:cNvSpPr/>
          <p:nvPr/>
        </p:nvSpPr>
        <p:spPr>
          <a:xfrm>
            <a:off x="2819520" y="1219320"/>
            <a:ext cx="19047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5867280" y="1295280"/>
            <a:ext cx="1981440" cy="6098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503440" y="4419720"/>
            <a:ext cx="2220840" cy="782640"/>
          </a:xfrm>
          <a:custGeom>
            <a:avLst/>
            <a:gdLst/>
            <a:ahLst/>
            <a:rect l="l" t="t" r="r" b="b"/>
            <a:pathLst>
              <a:path w="1430" h="524">
                <a:moveTo>
                  <a:pt x="227" y="9"/>
                </a:moveTo>
                <a:lnTo>
                  <a:pt x="1430" y="0"/>
                </a:lnTo>
                <a:lnTo>
                  <a:pt x="1430" y="524"/>
                </a:lnTo>
                <a:lnTo>
                  <a:pt x="0" y="52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4495680"/>
            <a:ext cx="374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ask invocation provides a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else the task uses the default val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391520" cy="256860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1" name=""/>
          <p:cNvSpPr/>
          <p:nvPr/>
        </p:nvSpPr>
        <p:spPr>
          <a:xfrm>
            <a:off x="2362320" y="1143000"/>
            <a:ext cx="2895480" cy="1676520"/>
          </a:xfrm>
          <a:custGeom>
            <a:avLst/>
            <a:gdLst/>
            <a:ahLst/>
            <a:rect l="l" t="t" r="r" b="b"/>
            <a:pathLst>
              <a:path w="1824" h="1056">
                <a:moveTo>
                  <a:pt x="1824" y="1056"/>
                </a:moveTo>
                <a:lnTo>
                  <a:pt x="854" y="1055"/>
                </a:lnTo>
                <a:lnTo>
                  <a:pt x="438" y="2"/>
                </a:lnTo>
                <a:lnTo>
                  <a:pt x="0" y="0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38120" y="838080"/>
            <a:ext cx="1497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2"/>
          <a:stretch/>
        </p:blipFill>
        <p:spPr>
          <a:xfrm>
            <a:off x="380880" y="3200400"/>
            <a:ext cx="4141800" cy="3290760"/>
          </a:xfrm>
          <a:prstGeom prst="rect">
            <a:avLst/>
          </a:prstGeom>
          <a:ln w="9360">
            <a:solidFill>
              <a:srgbClr val="969696"/>
            </a:solidFill>
            <a:miter/>
          </a:ln>
        </p:spPr>
      </p:pic>
      <p:sp>
        <p:nvSpPr>
          <p:cNvPr id="74" name=""/>
          <p:cNvSpPr/>
          <p:nvPr/>
        </p:nvSpPr>
        <p:spPr>
          <a:xfrm>
            <a:off x="247680" y="1143000"/>
            <a:ext cx="668160" cy="2133720"/>
          </a:xfrm>
          <a:custGeom>
            <a:avLst/>
            <a:gdLst/>
            <a:ahLst/>
            <a:rect l="l" t="t" r="r" b="b"/>
            <a:pathLst>
              <a:path w="421" h="1344">
                <a:moveTo>
                  <a:pt x="420" y="0"/>
                </a:moveTo>
                <a:lnTo>
                  <a:pt x="0" y="2"/>
                </a:lnTo>
                <a:lnTo>
                  <a:pt x="0" y="1338"/>
                </a:lnTo>
                <a:lnTo>
                  <a:pt x="421" y="1344"/>
                </a:lnTo>
              </a:path>
            </a:pathLst>
          </a:cu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09-12-13T23:26:12Z</dcterms:modified>
  <cp:revision>1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