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8C6D5-D65A-411D-ADE8-16BFE6C09B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1195-0398-425A-9A5A-2804D2173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E18BF-968A-46D7-AF46-4F5530430B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852-2651-403E-9139-F8D35A72CF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B2A11-F0C8-4288-8E9D-CD154918B8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49412-2482-4A61-BB00-EE61C3A6A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A5F16-65DD-4F03-970D-9C133E14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36637-9676-4EB7-B8BE-C4912433D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22216-DCA9-4BD2-986B-1DD8F9420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3D10C-E14A-4E53-8A9A-2EC816983A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4EC5A-B586-4344-A0FC-7DC9B1325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C6D0-52EE-4E4D-ABC4-F969AF251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AEA8C-23E6-4DB8-8FA8-80BF53C8ED3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30040" y="655560"/>
            <a:ext cx="5823000" cy="241632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>
            <a:off x="5410080" y="1066680"/>
            <a:ext cx="76320" cy="381240"/>
          </a:xfrm>
          <a:custGeom>
            <a:avLst/>
            <a:gdLst>
              <a:gd name="textAreaLeft" fmla="*/ 0 w 76320"/>
              <a:gd name="textAreaRight" fmla="*/ 27360 w 76320"/>
              <a:gd name="textAreaTop" fmla="*/ 9720 h 381240"/>
              <a:gd name="textAreaBottom" fmla="*/ 371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 flipH="1">
            <a:off x="5562720" y="125100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 flipH="1">
            <a:off x="352440" y="2049480"/>
            <a:ext cx="84240" cy="1003320"/>
          </a:xfrm>
          <a:custGeom>
            <a:avLst/>
            <a:gdLst>
              <a:gd name="textAreaLeft" fmla="*/ 0 w 84240"/>
              <a:gd name="textAreaRight" fmla="*/ 30240 w 84240"/>
              <a:gd name="textAreaTop" fmla="*/ 25920 h 1003320"/>
              <a:gd name="textAreaBottom" fmla="*/ 977400 h 1003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416640" y="1104840"/>
            <a:ext cx="115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Used domai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H="1">
            <a:off x="6132240" y="1806480"/>
            <a:ext cx="328680" cy="7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400080" y="1660680"/>
            <a:ext cx="128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3967200" y="207972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402240" y="1933560"/>
            <a:ext cx="1148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Java Task ca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967200" y="2371680"/>
            <a:ext cx="2494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02240" y="2225520"/>
            <a:ext cx="2629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Contract value, provided by the local parame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42600" y="3162240"/>
            <a:ext cx="4129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oduction plan = ordered list of activities, here Java tas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T0025113</cp:lastModifiedBy>
  <dcterms:modified xsi:type="dcterms:W3CDTF">2010-02-10T10:47:40Z</dcterms:modified>
  <cp:revision>1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