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C3DFD-FE17-4F1F-B10A-1221537748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76042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06120" y="4183200"/>
            <a:ext cx="76042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3ABA6-2C10-42B7-8BB9-E8D1D0E380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0612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276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327B4-8DDA-4061-B4EB-144E524AAE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77240" y="232236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8360" y="232236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06120" y="418320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77240" y="418320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8360" y="418320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6194B-92F3-4B56-8B4E-5A01505A40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06120" y="2322360"/>
            <a:ext cx="760428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6D455-79AA-4B46-84AE-CFCFA515AA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76042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B2C7E-5ADC-44AB-8164-66F1784FE7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CE010-B6C4-43DA-BA2A-4C6F7785BA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13EEC-CE5F-49DE-9FCF-74A06D5A9B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1160" y="173160"/>
            <a:ext cx="7599600" cy="73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5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A49AA-AF52-4A7B-A5C0-574B24EB22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0612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F8920-6609-40D6-BA06-9774A7B74E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276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1D002-7973-4EC5-B97A-40DE514A8F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6120" y="4183200"/>
            <a:ext cx="76042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AA9B8-3372-4BE9-9164-261377A435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4192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F95D2DC-0AEE-4AA3-AD22-1D11052A4C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06120" y="2322360"/>
            <a:ext cx="76042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1" marL="287280" indent="-172800">
              <a:lnSpc>
                <a:spcPts val="2500"/>
              </a:lnSpc>
              <a:buClr>
                <a:srgbClr val="ffffff"/>
              </a:buClr>
              <a:buSzPct val="68000"/>
              <a:buFont typeface="Wingdings" charset="2"/>
              <a:buChar char="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3" marL="16002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4" marL="20574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5" marL="20574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6" marL="20574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le-Antiqu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" name=""/>
          <p:cNvSpPr/>
          <p:nvPr/>
        </p:nvSpPr>
        <p:spPr>
          <a:xfrm>
            <a:off x="-271800" y="6232680"/>
            <a:ext cx="342036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500" spc="-1" strike="noStrike">
                <a:solidFill>
                  <a:srgbClr val="ffffff"/>
                </a:solidFill>
                <a:latin typeface="TeleLogo"/>
              </a:rPr>
              <a:t>====!</a:t>
            </a:r>
            <a:r>
              <a:rPr b="0" lang="de-DE" sz="3500" spc="-1" strike="noStrike">
                <a:solidFill>
                  <a:srgbClr val="f00580"/>
                </a:solidFill>
                <a:latin typeface="TeleLogo"/>
              </a:rPr>
              <a:t>"</a:t>
            </a:r>
            <a:r>
              <a:rPr b="0" lang="de-DE" sz="3500" spc="-1" strike="noStrike">
                <a:solidFill>
                  <a:srgbClr val="ffffff"/>
                </a:solidFill>
                <a:latin typeface="TeleLogo"/>
              </a:rPr>
              <a:t>§=!Nova§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EU-Project SHAMAN</a:t>
            </a:r>
            <a:br>
              <a:rPr sz="4400"/>
            </a:br>
            <a:r>
              <a:rPr b="0" lang="de-DE" sz="3200" spc="-1" strike="noStrike">
                <a:solidFill>
                  <a:srgbClr val="ffffff"/>
                </a:solidFill>
                <a:latin typeface="Tele-Antiqua"/>
              </a:rPr>
              <a:t>Security for Heterogeneous Access in Mobile Applications and Network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ele-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History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109000" cy="3562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 fontScale="79000"/>
          </a:bodyPr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SHAMAN is the successor of the EU-Projects ASPeCT (Advanced Security for Personal Communications Technologies, ACTS 095) and USECA (UMTS Security Architecture, ACTS 336)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Both projects delivered valuable input for the UMTS-standardisation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Involved parties in the USECA-Project: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erator: Vodaf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nufactures: Siemens, Panasonic, Giesecke &amp; Devr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Katholieke Universiteit Leuv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SHAMAN Workpackages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>
              <a:lnSpc>
                <a:spcPts val="2500"/>
              </a:lnSpc>
              <a:spcAft>
                <a:spcPts val="601"/>
              </a:spcAft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1 – Security for global roaming in IP-based mobile      </a:t>
            </a: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 networks with heterogeneous access networks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finition of secure protocols for heterogeneous IP-based access networks, e.g. Wireless LANs, Bluetooth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2 – Unified Security architecture for future mobile terminals and applications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velopment of an Security-architecture for mobile terminals as well as for the service and application 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SHAMAN Workpackages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400" y="685800"/>
            <a:ext cx="8229600" cy="59212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3 - Public Key Infrastructure for next generation mobile telecommunications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finition of Interoperability Requirements for PKIs in future heterogeneous net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rvey of usage possibilities of PKI in mobile networks, e.g. for Core Network Secur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4 – Security modules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dentification of components in mobile terminals, which need physical and cryptographic protectio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5 – Prototypes and demonstrators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6 – External relations and liaison with standards bodies </a:t>
            </a:r>
            <a:br>
              <a:rPr sz="2600"/>
            </a:b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9T12:03:46Z</dcterms:created>
  <dc:creator>Bernd Adams</dc:creator>
  <dc:description/>
  <dc:language>en-US</dc:language>
  <cp:lastModifiedBy>Bernd Adams</cp:lastModifiedBy>
  <cp:lastPrinted>2000-05-29T14:30:08Z</cp:lastPrinted>
  <dcterms:modified xsi:type="dcterms:W3CDTF">2001-03-07T13:53:07Z</dcterms:modified>
  <cp:revision>6</cp:revision>
  <dc:subject/>
  <dc:title>Das EU-Projekt SHAMAN Security for heterogeneous access in mobile applications and networks </dc:title>
</cp:coreProperties>
</file>