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0.wmf" ContentType="image/x-wmf"/>
  <Override PartName="/ppt/media/image22.wmf" ContentType="image/x-wmf"/>
  <Override PartName="/ppt/media/image5.wmf" ContentType="image/x-wmf"/>
  <Override PartName="/ppt/media/image2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2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3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1844280"/>
            <a:ext cx="6858000" cy="24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awful Interception Challenges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Access &amp; Delivery 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of 3G Networks</a:t>
            </a:r>
            <a:endParaRPr b="1" lang="en-US" sz="38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77120" y="4719600"/>
            <a:ext cx="2471760" cy="134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Itzik Vager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Telecom Expert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June 2001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19920" y="2743200"/>
          <a:ext cx="236196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743200"/>
                    <a:ext cx="236196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G IP Multimedia - LI Conclusion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520" y="11426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LI Access to 3G Multimedia is a must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Recommended further detailed study by ETSI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RELIANT</a:t>
            </a: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 MC will need to face the challenge of handling 3G IP Multimedia sessions, encapsulated in GPRS intercepts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Upgrading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AR-GATE </a:t>
            </a: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to interface to VoIP and VoATM will Simplify the interfacing to the 3G Multimedia IP Core. 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STAR-GATE 4 VoIP &amp; VoATM</a:t>
            </a:r>
            <a:endParaRPr b="1" lang="en-US" sz="37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438280" y="1295280"/>
          <a:ext cx="566748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295280"/>
                    <a:ext cx="566748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ulti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or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495680" y="4267080"/>
            <a:ext cx="1676520" cy="297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057400" y="5791320"/>
            <a:ext cx="1552680" cy="226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828800" y="5029200"/>
            <a:ext cx="1600200" cy="243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238880" y="5715000"/>
            <a:ext cx="1401840" cy="299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2362320" y="4343400"/>
            <a:ext cx="1130040" cy="228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7086600" y="4191120"/>
            <a:ext cx="1801800" cy="4698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>
            <a:off x="4495680" y="5715000"/>
            <a:ext cx="1368720" cy="345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7162920" y="4952880"/>
            <a:ext cx="1600200" cy="30492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MVN  will be more common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Network Split based  on : 2G/3G, CS/PS, Geographical, Service, Over Time,…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AR-GATE</a:t>
            </a: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 will provide: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Flexibility to support different INI protocols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Assurance for the integrity of the LI solution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43400" y="4886280"/>
            <a:ext cx="2133720" cy="519120"/>
          </a:xfrm>
          <a:prstGeom prst="rect">
            <a:avLst/>
          </a:prstGeom>
          <a:solidFill>
            <a:srgbClr val="00ffff"/>
          </a:solidFill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cc"/>
                </a:solidFill>
                <a:latin typeface="Times New Roman (Hebrew)"/>
              </a:rPr>
              <a:t>STAR-GATE</a:t>
            </a:r>
            <a:endParaRPr b="0" lang="en-US" sz="28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476760" y="51814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6476760" y="5409720"/>
            <a:ext cx="68580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6476760" y="4572000"/>
            <a:ext cx="6094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29" name=""/>
          <p:cNvSpPr/>
          <p:nvPr/>
        </p:nvSpPr>
        <p:spPr>
          <a:xfrm>
            <a:off x="3505320" y="457200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51814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1" name=""/>
          <p:cNvSpPr/>
          <p:nvPr/>
        </p:nvSpPr>
        <p:spPr>
          <a:xfrm>
            <a:off x="5181480" y="449568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3581280" y="5410080"/>
            <a:ext cx="76212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5257800" y="5486040"/>
            <a:ext cx="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391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Mixed GSM / UMTS Network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Dual Mode mobiles and CN will support continuity of CS and PS calls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Due to mobility a CS/PS call/session may hand-over between GSM/UMTS CN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The LI product should be transparent to Inter CN hand-over. 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STAR-GATE</a:t>
            </a: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 will interface to 2G / 3G network nodes seamlessly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447560" y="99072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The 3G network may span over several countries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Different countries may have different LI regulation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Country LI Sovereignty must be maintained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Operator has local obligation to comply to the local legislation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400800" y="4495680"/>
          <a:ext cx="2514600" cy="17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495680"/>
                    <a:ext cx="2514600" cy="17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14264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 Pan European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G Pan European networks -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LI requirements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rovide dedicated, per country, LI Administration.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rovide dedicated, per country LI Delivery variations.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Implement Location based delivery.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roperly handle Ongoing calls/sessions while boarder crossing.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G Pan European networks - </a:t>
            </a:r>
            <a:br>
              <a:rPr sz="3600"/>
            </a:br>
            <a:r>
              <a:rPr b="1" lang="en-US" sz="3600" spc="-1" strike="noStrike">
                <a:solidFill>
                  <a:srgbClr val="3366cc"/>
                </a:solidFill>
                <a:latin typeface="Arial"/>
              </a:rPr>
              <a:t>The STAR-GATE solution</a:t>
            </a:r>
            <a:endParaRPr b="1" lang="en-US" sz="36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2209680" y="1371600"/>
          <a:ext cx="6248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371600"/>
                    <a:ext cx="6248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G Shared Infrastructure Networks</a:t>
            </a:r>
            <a:br>
              <a:rPr sz="4000"/>
            </a:b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and Virtual Operators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Infrastructure Sharing may wear different faces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LI scenarios need to be studied carefully: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Target activation in both networks ?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Roaming between Shared/Non Shared networks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Notification of access attempt from the Number Portability Database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Providing enough information for Matching of different information sources for the same session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2515320"/>
            <a:ext cx="1447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(Hebrew)"/>
              </a:rPr>
              <a:t>Partly Share the RN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2515320"/>
            <a:ext cx="116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(Hebrew)"/>
              </a:rPr>
              <a:t>Virtual Operators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49" name=""/>
          <p:cNvSpPr/>
          <p:nvPr/>
        </p:nvSpPr>
        <p:spPr>
          <a:xfrm>
            <a:off x="2057400" y="2515320"/>
            <a:ext cx="1165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(Hebrew)"/>
              </a:rPr>
              <a:t>Roaming Agreement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2819520"/>
            <a:ext cx="5867280" cy="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2515320"/>
            <a:ext cx="1164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 (Hebrew)"/>
              </a:rPr>
              <a:t>Share RN &amp; SGSNs</a:t>
            </a:r>
            <a:endParaRPr b="0" lang="en-US" sz="1600" spc="-1" strike="noStrike">
              <a:solidFill>
                <a:srgbClr val="000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Future servic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52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800" spc="-1" strike="noStrike">
                <a:solidFill>
                  <a:srgbClr val="2a466e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G is starving for new money generating services: Gaming, M-Commerce,... 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The new services may result in a requirement to upgrade the LI support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For Example : The use of the Open API to derive the 3G Multimedia IP subsystem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a466e"/>
              </a:buClr>
              <a:buFont typeface="Arial"/>
              <a:buChar char="•"/>
              <a:tabLst>
                <a:tab algn="l" pos="4863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a466e"/>
                </a:solidFill>
                <a:latin typeface="Arial"/>
              </a:rPr>
              <a:t>Other already introduced services - like location based services may catch-up and require integration with LI.</a:t>
            </a:r>
            <a:endParaRPr b="1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STAR-GATE and 3G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STAR-GAT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is designed for easy upgrade-ability facing the challenges of 3G Network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2282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9320" y="12949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Challenges in LI Access and Delivery for the 3G IP Multimedia Subsystem.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3G LI Challenges in: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Multi Vendor Networks.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Mixed GSM and UMTS Networks.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an European Network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hared Infrastructure Networks and Virtual Operators.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uture Service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 (Hebrew)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819520" y="1981080"/>
          <a:ext cx="467172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1981080"/>
                    <a:ext cx="467172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d Generation network layou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057400" y="914400"/>
          <a:ext cx="5867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914400"/>
                    <a:ext cx="5867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000" spc="-1" strike="noStrike">
                <a:solidFill>
                  <a:srgbClr val="3366cc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3366cc"/>
                </a:solidFill>
                <a:latin typeface="Arial"/>
              </a:rPr>
              <a:t>Circuit’ Switched LI - All IP Core</a:t>
            </a:r>
            <a:endParaRPr b="1" lang="en-US" sz="40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143000"/>
            <a:ext cx="7620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PP TS 33.107 Version 4.0.0 Release 4 :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GPP TS 33.106 Version 5.0.0 Release 5 :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media IP Interception Criteria - SIP URL (further study)</a:t>
            </a:r>
            <a:endParaRPr b="0" lang="en-US" sz="20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IP IRI and CC Correlation - For further study</a:t>
            </a:r>
            <a:endParaRPr b="0" lang="en-US" sz="20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HE - Virtual Home Environment - Roaming services will be provided by home network</a:t>
            </a:r>
            <a:endParaRPr b="0" lang="en-US" sz="20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3200400" y="1447920"/>
          <a:ext cx="4540320" cy="27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447920"/>
                    <a:ext cx="4540320" cy="27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7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G Network Internal Multimedia Call</a:t>
            </a:r>
            <a:endParaRPr b="1" lang="en-US" sz="37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33560" y="1600200"/>
          <a:ext cx="68007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33560" y="1600200"/>
                    <a:ext cx="6800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5562720" y="4495680"/>
          <a:ext cx="1325520" cy="2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495680"/>
                    <a:ext cx="1325520" cy="2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GPRS based LI Access for </a:t>
            </a:r>
            <a:br>
              <a:rPr sz="3700"/>
            </a:b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IP Multimedia </a:t>
            </a:r>
            <a:endParaRPr b="1" lang="en-US" sz="37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GPRS Intercepted Session includes a mix of signaling (SIP) and multimedia session transfer.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Session Data (Voice, Video,..) is in compressed format !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Limited information on the activated Multimedia subsystem services (forwarding, conference, etc.)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7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G Multimedia - Subscriber Identities</a:t>
            </a:r>
            <a:endParaRPr b="1" lang="en-US" sz="37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1066320"/>
            <a:ext cx="7620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rivate Identity - NAI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Used for Registration and AAA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May include the IMSI representation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Format similar to e-mail address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Stored on USIM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ublic User Identity - SIP URL or E.164 Number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Used for starting a session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-254160">
              <a:spcBef>
                <a:spcPts val="6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466e"/>
                </a:solidFill>
                <a:latin typeface="Arial"/>
              </a:rPr>
              <a:t>Multiple Identities, at least one is on USIM.</a:t>
            </a:r>
            <a:endParaRPr b="0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2a4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The home domain name - stored on USIM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052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7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G Multimedia call - Roaming scenario</a:t>
            </a:r>
            <a:endParaRPr b="1" lang="en-US" sz="37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2286000" y="1219320"/>
          <a:ext cx="609588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219320"/>
                    <a:ext cx="609588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700" spc="-1" strike="noStrike">
                <a:solidFill>
                  <a:srgbClr val="3366cc"/>
                </a:solidFill>
                <a:latin typeface="Arial"/>
              </a:rPr>
              <a:t>3</a:t>
            </a: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G Multimedia call - Roaming + </a:t>
            </a:r>
            <a:br>
              <a:rPr sz="3700"/>
            </a:br>
            <a:r>
              <a:rPr b="1" lang="en-US" sz="3700" spc="-1" strike="noStrike">
                <a:solidFill>
                  <a:srgbClr val="3366cc"/>
                </a:solidFill>
                <a:latin typeface="Arial"/>
              </a:rPr>
              <a:t>Conferencing to PSTN scenario</a:t>
            </a:r>
            <a:endParaRPr b="1" lang="en-US" sz="37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905120" y="1143000"/>
          <a:ext cx="655308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143000"/>
                    <a:ext cx="655308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9T08:34:03Z</dcterms:created>
  <dc:creator>iinfosys</dc:creator>
  <dc:description/>
  <dc:language>en-US</dc:language>
  <cp:lastModifiedBy>iinfosys</cp:lastModifiedBy>
  <dcterms:modified xsi:type="dcterms:W3CDTF">2001-06-02T18:56:35Z</dcterms:modified>
  <cp:revision>110</cp:revision>
  <dc:subject/>
  <dc:title>Lawful Interception Challenges in Access &amp; Delivery of 3G Networks The IP Multimedia Subsystem</dc:title>
</cp:coreProperties>
</file>